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2BAC-4503-4D59-BDBF-7C6DDB19E7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CA3-9069-436C-88CD-9C2587510C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CB5F-2AE9-490B-8100-8402330C11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D060-A135-4EA8-B665-6107126DB2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3F9-3A42-46F5-AC47-4E7C63722C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E5A2-0AE0-4452-8ABE-F5FD02B6AD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9A49-EB8F-4A74-807B-7117A8EF8A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0337-784E-4954-8539-73EBEED5E2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A0B3-E195-4E5B-A54C-482568F89A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64DC-E6C7-4CF3-9CE2-95BEA0E26A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3EEB-A5D5-42CC-A8BC-82159EECF0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9E6E-1771-45B8-A265-A34B1158DC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81EE-F0CA-4EA0-8998-DA5F5A3AC2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9A07-BB3D-4AB9-85D2-E7A11EFF7C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B45E-F8A8-4D5B-A17B-C5517BA56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2445-135B-4596-B894-05A37B23D10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F681-77AC-4A74-980C-8AA0F47952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07AAB-489D-4BEA-96A5-5733C073FA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AF450-B995-4676-B5F7-78597AF0C4A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83155-A4D6-4D22-813C-21D377EDB94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290B-312B-41C4-B153-46BDC5890D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11388-D829-485D-9B3C-36CE0BC7F9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121E5-B3F0-4791-9AD7-583853725A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EC8F9-7439-4AC6-82B3-AC9FBA941C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B874-FD26-444F-9439-3BE1A14A862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89A54-F0F8-44B4-92DE-ABF9A24DB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7FC4-C16A-43F4-B854-629905D565E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C8C41-B34C-41FD-ABE1-CDF18EA95DB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9E1ED-498C-4874-A049-1ED7E07022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DE08B-A241-4512-A7FF-2AC26CA017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EFFD6-00F8-480D-891D-2732F3B0EA0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B10D0-BAFB-40BD-8097-9AEE4A8F32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CB0B3-034B-43AB-8497-6F1F06888C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F7E42-4482-4B61-919A-49971F36BF5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EB40D-BA00-4478-B1B5-3B99D8A1389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998A2-B29C-4DCF-9824-CA00174B6A1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10137-F75B-4AF9-9010-095F9392A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AB51-A52E-4DF4-95E1-890D77BBCD8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F369A-FDA7-434D-B79C-22137057ABB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B8E7CD-2CFB-4852-A74E-2693174FDAC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CD130-B684-44DB-8CB0-0B2635C3680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876270-BC0B-401B-AEF7-9D21B7C0977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CCDE2F-DA27-4F69-979A-5F29ED35675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22620D-32E6-4BF6-AC62-CCC54895D39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4681F9-AFB5-43A2-A306-FCBE2FC0D04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88054-72E1-49B6-B445-DE0B44A1606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1D04F5-CB24-47DD-A24A-425B15DB83B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5F2229-5C43-48FC-ABCB-1702E5D13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FE365-55D0-407F-9ED3-17BFA17F7CF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56E91D-F6D2-4D1D-A488-2BE9811503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4354AE-E9FB-4A48-AE27-819F99DC7ED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B797B-F12F-4035-9A3D-6DB0042C7E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2397A-38AF-4213-8A56-D15F6764D9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AC2AD-F45A-4F07-A2F1-177836E6427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1ED8D-1389-49B7-9850-F1F6E9E82B9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82E3D-DDF3-47B0-8691-138A399BCBF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72C17-3522-48CE-82C4-05591A3A524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CB56F-9BFC-487B-A1CD-AAF4E2DBBA7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9F711-FE3C-455B-9536-CF0C3324D4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AC388-5BDE-467A-AA23-E5E95E10696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D80E7-1FC8-4A1A-A004-77EF72392F1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4C24F-E250-401D-AD7F-6E5E0879B6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8335E-5932-42D3-A5ED-47F02FF111B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83BC6-5640-48AB-AF48-447ECD1CD75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9E2F-77F3-482E-AAC1-96A70ACF08C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A366C5-2B89-4B20-87D9-FCB03700C56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18E145-A40F-4B96-95EC-347E13D0285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C80762-1960-486F-9522-C243D1D0BE2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A001A-370E-4454-91A4-6A4487A1C0B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0FF354-74F3-4B56-8022-A1C9BDB67D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C8F99-E54B-425A-9EF2-032018A540D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4EF6A7-2188-443A-9032-1189FA681D8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2DE93C-6694-4758-9E14-C8AFC41B66B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F28CE1-1B89-41CA-AD08-8CB9C00BBFD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9A3EAC-CF06-46B9-992E-281D79B5E1B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2755A7-0951-4E73-A4FB-E04CD298414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64176-7BA9-40ED-BB07-5919D48410B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8A89D7-9EC0-41F5-B5F4-B57D4B3CFD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2B374-4E71-437B-A084-898106B354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201AD-E4E2-496E-93F6-4084175C5F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3A762-2003-4EE9-8FB5-324A30ADF8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F15BD-AE3B-4A39-9EA6-CA6897B5C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3571-2B94-4708-8B10-E600FDB40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1A0C9-4F38-432B-8F1C-C4F79724A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89B87-5A6C-403E-8E96-7795B6A13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B95DF-A270-4BBE-8E48-AEB018A327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69408-C742-4726-B85D-35DCFB50E6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329FE-830A-422E-B496-EE6D884404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5799-0B8F-4BCA-B0D8-9934DB0B92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15A8-C5D5-483E-B70D-14D799F6A0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93E2-FCA2-4A5D-B1F3-E4B58274D1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343A-4D8A-4E3D-BC8D-4B2FA408D2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2B3F-EECC-4F85-95C7-14DA28AAC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A4D9-7234-451D-9AD9-A201FE7E8D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914A-AB3F-45FC-B248-949B3A1610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A711-9347-4F2F-98BE-99A7E492CC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3557-4E79-4124-A27F-D4CA2BC39D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8B67-3051-457B-8D16-E9AA1CD801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0BF9-907B-44AC-86EC-D497236717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8EC5-A81F-4F76-9BFE-0117C63118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3B88-90CC-4BC2-80E3-E50E137E04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5B37D-58B9-4563-B5F1-E1093DD811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0FE6A-A6DB-46B1-8DEA-40245EDA5C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99437-E2AF-4292-AC9E-04995D49B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2116-D7BA-4F1C-9D9A-46D626F475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96AD5-4C0A-437B-99FE-765B94FD1B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AB532-5BB6-450F-84E0-8535163BA8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58617-00E7-4D88-8FEF-3D235890B3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2F4FE-7EC8-49E4-B808-CF17CAC324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06D83-54AA-485D-B59B-A59E6D46AF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21E08-D109-410D-A2F6-D7A8427EEF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A0361-E51A-4E4C-9F6F-48EA6BC5BD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DC23B-99C6-4C0C-9742-A0CD710A56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33476-B166-499C-8A18-52E015BA0B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9A94D-E2F7-4BDF-A8AE-E4EB32DB3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5593-2563-4B75-9E4A-7A4E814591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CC599-C5C3-4F0A-BC1B-A10F89FCDE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BFFD0-D36B-4455-82CA-3F1A13948A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C7EE8-962C-43BA-ABA3-B1557F5180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D6790-0CF4-44BB-91DA-7130BD4F6F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9B967-4561-45D4-B597-0264F5CA52F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9857D-FDA8-4ECB-952D-F04DFAA09A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BFB2B-1398-4D18-B173-7F237B49D3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01022-69EB-4522-BFA2-66997ECB81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01880-B468-4B4D-A739-390C5C9327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5E90B-6722-443F-9B14-D483534EF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77DB-844E-4EF5-BADD-A1F3F282D2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DD9D1-780D-4C99-8042-C941F375BB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568D-3FA7-4F23-BECA-00877C44F4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370F-38CA-45D9-BBC2-5F1235E95E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E995-EF33-4338-A0C1-A1260347D0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5A8C-7C97-4883-985B-84520F42D3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C49DA-0B8B-4882-9B9F-FEA1940773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9F21-C50F-4F68-86C4-57057C9EC2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ECBF-0210-4986-B35B-DDBA723C7FC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8470-AD3E-45D3-8B2D-CD21E684D8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E94E-D3C4-496E-8F2D-A3E654442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B4CB-40B1-4B61-9331-59845CBACB1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7DF8-8AFC-4769-9970-B6B9B7BEEE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3E9A7-65BD-4A79-9E0B-05EB78F8CD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4C891-04AD-4256-86EA-AE06F3140E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78ADA-4C6D-45A0-A20E-4B9F4D9948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59825-F3FF-4F37-AED0-BF4AF838C3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E92EE-BEA0-41A8-B6B5-3FB48A654C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E98A5-ABE3-4CBB-83A3-0CEABC3971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68D3E-6D62-4E74-B46E-FFBCD22575D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7818C-6D49-4EA4-A042-68F436784D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D8CA5-2796-48EE-AB8B-11E1AB02E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2130-8497-41B1-B1D0-05EC181B9D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62773-271A-41ED-897D-5DD619989A7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D1007-2C8A-45B2-B493-BEEC37CB651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C000E-A6DD-4816-BB47-0ECCE73784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9024F-2EB5-4C2C-AAAF-2332B088303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2E190-73D6-44DD-9768-A6EAD3CBF9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42F73D-9CC0-45C7-AEB8-1D9C6E7C25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38AD51-7E6A-4CB2-9722-38A0FB255B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77899-F87B-451F-BE26-5B6C86B7A37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95B83E-66D7-41D0-BE66-8F443074E4E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4AC38-C899-4AC2-8FF2-CD337ADA1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C51D-BD36-4456-8437-B81CFB44CA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10D7D6-CDC5-4792-A2B1-F18E75E4A6F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DCD37-76F4-41D1-AAB5-F6DB95E447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6ED2FA-E75D-45DD-91C5-A5ABCD33DDE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5DD63C-00B6-494F-B0F4-8A644D63414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E46F35-4116-4EE3-AA36-178DF389D2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503FA-5270-4B62-A7B7-C5AFFEF761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DD8F09-9C35-4BB6-B2C7-8E7414F83F5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67EA4-6A29-4C9D-AC18-717604C55DA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4C1B9-B0AC-46DD-88BF-F8904451E7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6ED23-7D6F-4055-8FBF-2C95DD2C2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9FA6-40AB-4C62-9C46-58FC31B17B4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7B7B-489B-4D49-B743-07D60CEBD10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E614-6D34-4B5D-AAFE-F07FAC36F59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7219-78C0-4BB4-B141-CDCA1B0EC0E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62B7-614B-4518-B06B-14952954DFB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1233-4BD6-410B-B30F-428545760E7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20F4-92D6-45CE-B393-FFFC63247CD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1D85-0BC0-4225-B0A1-E5388E54787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2C50-5DB9-4EE9-B424-95EDDDD844B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4369-7002-4E44-BFB9-D730D73C8D1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545-43AB-4476-89A4-6956420D053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4463-11E6-47AA-9BAD-1D7B9F0A0DA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C87-62C9-4142-A527-D24F0199A94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7EB7-E44A-4FE7-8FD6-BA705E1EC87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2 – The Business Perspective &amp; Opportunitie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A42B-9938-463B-AB8D-1A8B747850B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Product Mi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volution or evolution (consider the architectural implications)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at do new clients require and what will old clients suffe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and define key service interfaces (internal and external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ill be the support and maintenance implication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Web-based update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67A0-02C8-4D56-8641-B61AA04A9C9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usiness Process Modelling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derstand the operational processes of the organ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del the business processes and identify information flow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ptimise the model and identify the operational chan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fine how the operational changes are to be realised (inc. the technology changes e.g. SoA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hange Managemen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10760" y="2196720"/>
            <a:ext cx="432612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ser Foc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placement of manual processes by computer-based proces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void the natural negative reaction to new sys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rticipate in the requirements specif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618080" y="2171520"/>
            <a:ext cx="399240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veloper Foc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service-oriented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ine the development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sult users throughout the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2965-6614-438C-8F03-AAA6064C1C9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Return on Investmen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duplication of operational activities and information stor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maintenance and upgrade costs via remote user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reporting and auditing costs with increased accuracy and timeliness of 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enue opportunities through new services and featur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E9C8-AF4B-4E46-8CC3-B92D59AA576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echnology Considerat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74840" y="2234880"/>
            <a:ext cx="82245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owser-based User Interfa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erprise Service B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ud Compu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rtual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ftware as a Service (S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tform as a Service (P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rastructure as a Service (I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40BD-39E8-4254-A5F2-4128C0004ED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57A3-28BD-4249-A920-5B72608DFBB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43080" y="2234880"/>
            <a:ext cx="83944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 every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benefits from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in business drivers and the expected RoI for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 no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technology fo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 sake of the technolo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D479-855C-46DD-B343-62ABE4D7C05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F1C2-ADFE-4856-BAB4-1E13C1B3761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474840" y="2235240"/>
            <a:ext cx="813564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the business process issues to be considered when preparing to adopt So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when and why SoA may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be the answer to a business IT problem and how to identify when/where SoA can be of bene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to identify the possibl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turn on Invest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mmercial Impera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4560" y="2196720"/>
            <a:ext cx="426708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duct Develop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duce product cycle times and development co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pansion into new markets (large and smal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creased need for Enterprise integ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18080" y="2171520"/>
            <a:ext cx="41320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Provi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flexibility for chan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erprise integration due to increased compli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ongevity and reduce co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90C5-E5B8-4861-99E2-4A14E56300C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B3E-1E5B-45CF-A07B-8D570FCB7D0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cquisition and mergers driving business and technology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udit demands of corporate governance and complian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creasing market competition and need to identify new marke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quirements to increase efficiency and effective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5C51-FF21-44C2-9A4E-946A5BDFE7C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Horses for Courses”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i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he solution when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a small percentage of an organization’s IT budget is spent on integration activ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ajority of an organization’s processes are manual, with little opportunity for auto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peration of an organization is managed by ERP applications with little or no integration requirem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6401-D3B9-4CBE-8CD3-8CEBAA63150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Divide &amp; Conquer”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service ha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high cohesion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low coup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business proces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transaction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required of the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use existing services whenever possible, create as a last res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sider reusability when designing a new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C089-5817-421E-8E05-CC160567C27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Design Paradig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ised Se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vice Con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rvice Loose Coup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Abstra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Reus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Autonom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Stateless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Discover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Compos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9F57-D35D-4E8A-9412-337744100A8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ability to connect together system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requiring new integration development 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moves the need for homogeneity but still requires consistent semantics for 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quires a set of well define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(internal and external)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6063-DE40-4E4C-8D18-DA8596E83A3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pen Solut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74480" y="2235240"/>
            <a:ext cx="813564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nce an interface has been defined and the service realised, should the interface be revealed as an API and/or WSDL fil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encourage other products to integrate with your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s – become the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interface standard for a business sect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 – to maintain proprietary advanta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8:28:14Z</dcterms:created>
  <dc:creator>C Smythe</dc:creator>
  <dc:description/>
  <dc:language>en-US</dc:language>
  <cp:lastModifiedBy>Colin Smythe</cp:lastModifiedBy>
  <cp:lastPrinted>2008-02-19T11:08:18Z</cp:lastPrinted>
  <dcterms:modified xsi:type="dcterms:W3CDTF">2009-07-03T13:04:12Z</dcterms:modified>
  <cp:revision>263</cp:revision>
  <dc:subject/>
  <dc:title>No Slide Title</dc:title>
</cp:coreProperties>
</file>