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EF1A-C63D-4471-A921-61C24942D3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CF04-7BEA-4598-A982-870763D1AE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C867-35E1-4483-A21E-DA96D32FAA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2346-ECF8-4B68-98D3-E6B9C81993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7168-A8D2-4F74-BFFC-F707F6E131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4FB1-5D42-43D0-83D7-B2B4EDFE3D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3380-CBBA-4B55-B170-317EAEA4CA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ECD4-3091-4489-833F-15ADEB2CB8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3BD6-8A99-4BAF-AF36-1B2CAC8D2C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8FE2-E765-4E14-B9D7-055E2A7F70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F7E1-C68A-478A-9B46-A2C4F3354C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8B24-79EB-4068-9773-D3E3581353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1372-322B-4CD0-AD86-33C73C1F02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A384-EAFD-40E8-BC4C-A98859091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55C5-9299-414B-8A8F-BA2259D4F2E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7C205-41FF-4745-BC1C-A6BDB88657D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51194-A344-42E2-BF0F-9E4ACE3B701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DD2BF-68D7-4D42-8074-BC623C374A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D0E02-3E84-4CC6-902A-9F3A9AA97A9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0DAC3-3AEF-4A30-901D-26925EEB8A9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2FDBA-F72F-460F-8D77-90D56131941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23897-8674-4D4F-9893-95000E8CC2C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03F38-CF62-4AC7-938D-8888A48BB5F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5C016-6988-4F0D-9526-4D6DFB4CBB4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8424A-E5A6-4252-ACAD-43D816A5D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0280-9066-492C-BF88-2CE724264E0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1A3A7F-83F3-4870-A40E-4635F0B2F31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8E8EF2-AF40-4B06-8F95-621527BB3DF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940AE-C7C1-4AA2-BC0A-45915374592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C2B25-AC04-43F4-B012-1AA35D4EBB3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5DC6C-5B75-4C11-BC1B-739B5DC0D10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303E4-3C8D-4414-A92C-2F1803CF554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ED709A-DAC6-4028-ACA5-1F2D2E1ADE1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029B0-3BA2-4C83-B401-6DFDF344E95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C4495-A7F6-4374-B701-846D80DEE1C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C8313E-BC77-4050-B617-1E2AFAC95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0DC92-027D-43A2-8A89-157EC012812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2E3C5-1C2C-4344-A273-D1239083C7B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81F7D6-BCBF-4D21-971A-1EEFF6DD8D4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A31D4A-11B9-42F8-8A3A-9DE5291E406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A65F9B-CD97-4BCF-85AE-A7260932AA1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16F065-53C2-4AFF-A3DA-50E3444A2B5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C058F8-F352-44E6-A043-9598EDDECDC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A6736D-65C0-41F1-9419-1AB4805BC3C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625ED0-C820-4EF6-A966-0B0ACA77AE2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328CC-AE55-4B13-AE3A-BAAFCB93A2E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A36223-EDD0-4134-8384-C69106DC1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8F5CE-492B-4788-B20F-5E50F929737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0D2CAB-BFFB-4EF9-AA1A-33B0DAC1FC7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C6FE1D-7861-450B-A9C2-12C826DB6F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859CA3-1648-4C72-96DA-89E6F605300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0AC8A-DBA6-433E-A675-23444F56CBA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5A0EE-AAFB-40D0-9CC0-A608A23EC1D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91C96-8CF9-4545-82F8-5B4991EB888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9A475-009E-46B2-B11E-EABF26B9A1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A1F01-92CB-49F8-BAA5-970BD6FA41F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B6212-FBA0-43BC-A50F-B61ED3CC473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BDB5B-1CF5-4044-96DA-22981FD993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E3F63-8BAF-4473-B423-C58EEBD0089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8D115-442C-4359-A50B-E4D1F51A8BB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B1079-601D-4874-A379-62C9251913B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719B8-DA6D-4089-B25C-FCCABB391F4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8A1CC-EE20-41DA-AD96-B4C7E0DC727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8A5DC-A3B3-4496-B53D-6FBEA34E102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D7040A-0F15-4475-B07A-C848B30699E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E893B4-A546-4007-AB03-A2FE53D8B33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D85665-8F7B-4EFB-A09B-9B49CB05C5A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4FD703-D6E3-45DE-ACE7-B55F7B3915E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E5EAC4-6507-4EC6-9D88-CE11AB0789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7ECDF-B375-41B6-ADF1-6F5D0DB2C0A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EF14E1-2CC5-4D1F-8740-34AD0896315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CA3642-383D-4DB0-B948-6AF75C4D7E7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71A450-9567-4229-AF65-1A3276E1FC3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44AD92-A395-46BB-906A-965556703B6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4FC0BC-62AB-4789-B5E6-9DBE82A3156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010229-5107-49BD-B2E4-BD6A1319B1D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0FC8CD-CD43-4768-BC60-91526C7588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A77F6-67BD-4143-8757-2865001880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A4D01-22BE-4BD6-949B-0570D031A5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0FB47-FFC3-4C28-938E-1AB7468F77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3FE44-FB13-4BC1-8AB5-865B0A1CD1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9B64-88B4-4502-BCA7-8125F35DE7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14535-5952-4D69-99B5-2FD6301BAE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AE7B9-3FB5-41A6-9991-54E0482CCC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7D843-9679-437E-B956-84E35DCD44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4494F-9D4F-45F2-8C34-8C9732A7EF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50F32-2410-44FB-804F-3FBA89C195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BF60-ED04-41E9-A3E0-EB4077A2A7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2F8F-F0D5-460B-B25D-D666818CDD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78F5-5115-4A10-989D-7EF3E5F851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96A2-992E-4D7A-A4DB-22EF6415D4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4D24-6F90-4439-8DFA-6A8C09FAEC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E227-37A3-4B6F-9BA8-D3ED553244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7B52-C0B1-42E8-AD17-D2D70BD893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7177-8E0C-4B7B-88AB-E7F7AD09EF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53D0-F5B6-4C77-A2F8-508F3BDC11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59A9-6C33-4498-9320-CBFD16F7C9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63C7-E16A-4A69-BFB3-1B1702BEFD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4BE8-D63B-4699-9EEB-0F2ED8651F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E632-3E03-4720-AE8C-D4F11A7ECB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E7C95-48E5-4306-8AD4-EE61FC93B1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BA684-9CAB-4B1B-9F26-CA87F1F8CF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D6DA0-EFD0-47EF-9DAA-073D24523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BAEC-C08C-46F7-828B-CBB5A71530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C26FA-6EB1-484B-B12E-E273BE428E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C6E0D-1C83-4150-A44F-AAF82FA5E0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D98C7-3A71-42B8-AEA7-FAB728B401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35A60-679C-4A66-AD4F-A9B2CBCDAE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620E7-F696-4254-8574-7E80A99FA4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72115-CDB2-41EB-B0D7-721E8E6500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8EE6B-E3DE-4FB4-B419-945AD10F33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69045-C8BD-469C-863B-BBD99DF6B5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6284C-786C-4AAD-9C2F-BFAE67CDF75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B360E-2E85-4EE4-B9DE-BE23B92D0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2DAA-73B9-4554-977A-151D6373682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E030A-D671-46E2-824A-E8C4E40FEF1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F48B3-D8D6-4622-ADD3-99ED227D0F9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20B4D-1214-421A-B5DB-82575A52CB3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3FA16E-2C26-4C50-B9E1-0759170C1E8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8CE407-199F-4664-A341-8B88702F8E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4D73C-592E-4B3B-9583-5EF7D86A2F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4F2A0-28DA-45E6-A92E-85B501706BF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3541E5-9C9B-4C7E-901B-A2F9167334A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111182-AB2A-4077-B57F-1547C3AA8C6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AC77D-9EC3-45DA-AF7F-CF0C6D5DE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4044-C323-40C8-BE33-4C97BA87220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DDC96-E38B-4191-9461-9B989E9D64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1AF8-7D7D-4F2A-900F-E1D01B9E6D0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8AD79-8767-4EAE-9A69-639A888B45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FA31-B9BF-440F-95B0-5871DEE4F0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4E70E-F09B-4030-B1D8-6544908C329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C0AB-79CD-46AE-9ED3-EDF824367C5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9DC1-FCA1-4AE8-9016-76F2B44EE5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B5A08-ECFC-4417-9121-210245186E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B9239-8F53-46BB-95CC-157E4636157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04281-3F39-466E-9BF2-C6525FD12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18DD-9B7D-4B6C-B383-AA65A074EC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8FA2B-3136-4B11-BCA2-8242FD147F7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D423-5126-41BA-B63E-2A158CD7A1A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BAF87-435C-4AF8-94B1-E05933BCD43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3FFD5-68DE-4900-B06F-1BDD8CDB50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CF309-FB66-4AB3-89AA-4FE4C168AA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17B9F-8C59-4515-99E0-0BCD1C6BBD8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6C9B7F-7DF7-4911-8502-3A052BF55E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CE9EB-280C-414D-ABC7-4537361F5C5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8E9C2-888A-466B-B6D9-788979FA86E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1DC98D-CBAB-4BA8-B038-DFAFBA367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7C8F-C057-4F8F-A6A1-9E7A80835A9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D3C48-841A-4125-B8B8-AAE2FB9C708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2672CF-D0A9-4352-87C8-98E6CD83EA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70D9B-8CEF-4AC8-925C-5CC7E8B4784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001EA-3D10-44B9-A9A3-BE2B79F21B4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F55A2-8927-4F97-878D-2A667A996FA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5B0C6A-8383-4973-9D4F-D18DBD5915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366EEC-48BD-4E03-B552-409503755E0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4A75A7-6408-4B8B-B3D2-0EC9400B952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F5B457-0482-4B77-AFD6-988C72F0B67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28D7B1-EAD0-4F2D-AE30-8D9786242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9AA94-56E4-4E13-86DB-95555E93509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B028E9-B9D4-455D-9049-A1F5B0EC10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41FDF7-C9CB-4469-9FAD-02FCD9E4415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4EE1FE-B845-4743-9FA4-FE84BBC5758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653C2D-5084-42DA-91BB-EE851141A2C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EC0438-C6CF-4A12-95E4-526A170AC24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E688DF-A47A-4DF4-93DF-3EDE0D89DC2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7B1790-26F9-40E7-A59E-CB432802B1F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2B62F-211D-4FD7-9152-C3C3D2ECB6E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6E8B4-6753-42E6-9B23-C917CF4A81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D5F05-30EE-4CAA-A6DA-960251EB5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A2E9-3FC4-4CD8-BC9B-66FA40EC270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72E9-0306-4CA2-8987-E8D09D35CC6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58E0-3631-4C01-96EE-99293D8BE93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8055-E824-466E-A6A0-7BA1AAAAA0E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F2F2-268C-4966-B9EE-D32D7ABF470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5A4D-B46E-4802-9FA6-EACBB0322E1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A676-6AA7-4710-9277-9DACAF9DA26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0D3A-E6D3-4949-98A6-4FD312D239A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C9EE-03BC-454C-AD7A-03D5245AB40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E7AF-DB49-4670-A053-1DFEB9D35FB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D8D6-0BEE-47DA-A229-BB5C0FF3B0A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F738-687A-495A-8EE2-8160B057165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5EDA-06F7-4F92-B39F-0EA98274E00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B22A-AC7F-45FB-A094-6B5E9AC0E2C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4 – Enterprise Integration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6207-5E67-4C5E-A46B-9857BC2F5ED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Service Bu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74840" y="2234880"/>
            <a:ext cx="826272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B is a middleware solution that enables interoperability among heterogeneous environments using a service-oriented model, and it represents the consolidation of the EAI and application server product categor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are many implementations of the ES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F381-5EFF-4CFE-9DBE-C9FEACF3F68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-Capable Produc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74480" y="206964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ust support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istributed authentication, authorisation and access contro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onfigurable workflo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siness rule and information semantics mapp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eroperability through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Native service interfaces e.g. Web Service based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40896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 adapters e.g. ESB-adap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4153-B2E2-4535-B052-68F86389B85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-Capable System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ed a clear set of information semantic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 information where and when it is need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vide a combination of common services and domain-specific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n be changed with minimal new develop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Typical EAI Scenario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iversity and FE Colle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ducation for thousand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rehouse manag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Just in time supply chai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cilities managem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ormation integ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HS Connecting for Health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tale of wo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C8A9-7724-430E-9006-5309252FA2E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voiding Deployment Problem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ign services that improve manage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ress security, access compliance and audit contro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-to-end monitoring to detect, isolate and fix services probl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sure flexibility to adapt and track changes through tren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ort on services in a business context or in terms of SL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799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age the virtualization infrastructur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CBD3-E953-418D-85D2-8E174188598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2CDE-58A0-4B14-9DC7-D3990F67D86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ultiple services, systems and si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lexibility and 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eterogeneit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homogene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siness process optimis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should be a part of 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292B-3863-4312-B271-F60C0C30F68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0520" y="2234880"/>
            <a:ext cx="835668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SoA fits into Enterprise Architecture frameworks and how legacy can be addresse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some of the business issues including governance, and business and technology mi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scuss some typical scenarios for 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F386-8219-4BD6-8CFA-B9F59B9BCCE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D154-D1A5-4343-A328-F7593F9015B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Inte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ultiple services and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ultiple sites (inc. transnational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ccess and personaliz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lexibility and chang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eterogeneity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homogene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upply chain sup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gulatory suppor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optimis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D825-BDE8-4C02-B942-13ADCD3E2D8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A Framework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47" name="Picture 6" descr="600px-Architectural_Levels_and_Attributes.jpg"/>
          <p:cNvPicPr/>
          <p:nvPr/>
        </p:nvPicPr>
        <p:blipFill>
          <a:blip r:embed="rId1"/>
          <a:stretch/>
        </p:blipFill>
        <p:spPr>
          <a:xfrm>
            <a:off x="304920" y="2122560"/>
            <a:ext cx="8551800" cy="383364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5"/>
          <p:cNvSpPr/>
          <p:nvPr/>
        </p:nvSpPr>
        <p:spPr>
          <a:xfrm>
            <a:off x="584280" y="5867280"/>
            <a:ext cx="792468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pen Group Architecture Framework (TOGA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istry of Defence Architectural Framework (MODA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achman Framework – from 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"/>
          <p:cNvSpPr/>
          <p:nvPr/>
        </p:nvSpPr>
        <p:spPr>
          <a:xfrm>
            <a:off x="317520" y="4572000"/>
            <a:ext cx="8521560" cy="13208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16F0-1305-4E26-B256-EE5F74686ED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Addressing Scale &amp; Complex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ywhere, anytime acces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Finding resources, tools, applications and servi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nagement, maintenance and report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law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unintended consequen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ystem and service reliability and availabil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3870-3DB4-4B64-9A23-B6A3A4606DB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IT/SoA Governanc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7" name="Oval 6"/>
          <p:cNvSpPr/>
          <p:nvPr/>
        </p:nvSpPr>
        <p:spPr>
          <a:xfrm>
            <a:off x="1650960" y="2273400"/>
            <a:ext cx="5829480" cy="5829120"/>
          </a:xfrm>
          <a:prstGeom prst="ellipse">
            <a:avLst/>
          </a:prstGeom>
          <a:solidFill>
            <a:srgbClr val="cbcc1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409840" y="3032280"/>
            <a:ext cx="4311720" cy="4311360"/>
          </a:xfrm>
          <a:prstGeom prst="ellipse">
            <a:avLst/>
          </a:prstGeom>
          <a:solidFill>
            <a:srgbClr val="7dcc4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8"/>
          <p:cNvSpPr/>
          <p:nvPr/>
        </p:nvSpPr>
        <p:spPr>
          <a:xfrm>
            <a:off x="3205080" y="3827520"/>
            <a:ext cx="2720880" cy="2720880"/>
          </a:xfrm>
          <a:prstGeom prst="ellipse">
            <a:avLst/>
          </a:prstGeom>
          <a:solidFill>
            <a:srgbClr val="7fa7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TextBox 13" descr=""/>
          <p:cNvPicPr/>
          <p:nvPr/>
        </p:nvPicPr>
        <p:blipFill>
          <a:blip r:embed="rId1"/>
          <a:stretch/>
        </p:blipFill>
        <p:spPr>
          <a:xfrm>
            <a:off x="2749680" y="2425680"/>
            <a:ext cx="3632040" cy="2189160"/>
          </a:xfrm>
          <a:prstGeom prst="rect">
            <a:avLst/>
          </a:prstGeom>
          <a:ln w="0">
            <a:noFill/>
          </a:ln>
        </p:spPr>
      </p:pic>
      <p:pic>
        <p:nvPicPr>
          <p:cNvPr id="661" name="TextBox 14" descr=""/>
          <p:cNvPicPr/>
          <p:nvPr/>
        </p:nvPicPr>
        <p:blipFill>
          <a:blip r:embed="rId2"/>
          <a:stretch/>
        </p:blipFill>
        <p:spPr>
          <a:xfrm>
            <a:off x="3224160" y="3309840"/>
            <a:ext cx="2689200" cy="1536840"/>
          </a:xfrm>
          <a:prstGeom prst="rect">
            <a:avLst/>
          </a:prstGeom>
          <a:ln w="0">
            <a:noFill/>
          </a:ln>
        </p:spPr>
      </p:pic>
      <p:sp>
        <p:nvSpPr>
          <p:cNvPr id="662" name="TextBox 15"/>
          <p:cNvSpPr/>
          <p:nvPr/>
        </p:nvSpPr>
        <p:spPr>
          <a:xfrm>
            <a:off x="3399840" y="4572000"/>
            <a:ext cx="22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1A9A-D118-4B92-8E07-0B66FA38752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volution from a Legacy System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85800" y="7170840"/>
            <a:ext cx="6197760" cy="583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  Monolithic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685800" y="6586560"/>
            <a:ext cx="6197760" cy="584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Integrat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1130400" y="6002280"/>
            <a:ext cx="5753160" cy="5842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Provid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1562040" y="5418000"/>
            <a:ext cx="5321520" cy="584280"/>
          </a:xfrm>
          <a:prstGeom prst="rect">
            <a:avLst/>
          </a:prstGeom>
          <a:solidFill>
            <a:srgbClr val="8585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 Consum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1994040" y="4834080"/>
            <a:ext cx="4889520" cy="583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Expose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2425680" y="4254480"/>
            <a:ext cx="4457880" cy="584280"/>
          </a:xfrm>
          <a:prstGeom prst="rect">
            <a:avLst/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 Consume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2857680" y="3675240"/>
            <a:ext cx="4025880" cy="583920"/>
          </a:xfrm>
          <a:prstGeom prst="rect">
            <a:avLst/>
          </a:prstGeom>
          <a:solidFill>
            <a:srgbClr val="47ffd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 Orchestrate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3"/>
          <p:cNvSpPr/>
          <p:nvPr/>
        </p:nvSpPr>
        <p:spPr>
          <a:xfrm>
            <a:off x="3289320" y="3090960"/>
            <a:ext cx="3594240" cy="584280"/>
          </a:xfrm>
          <a:prstGeom prst="rect">
            <a:avLst/>
          </a:prstGeom>
          <a:solidFill>
            <a:srgbClr val="00664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 Build Compo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14"/>
          <p:cNvSpPr/>
          <p:nvPr/>
        </p:nvSpPr>
        <p:spPr>
          <a:xfrm>
            <a:off x="7040520" y="3090960"/>
            <a:ext cx="1824120" cy="176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5"/>
          <p:cNvSpPr/>
          <p:nvPr/>
        </p:nvSpPr>
        <p:spPr>
          <a:xfrm>
            <a:off x="7040520" y="4851360"/>
            <a:ext cx="1824120" cy="1719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6"/>
          <p:cNvSpPr/>
          <p:nvPr/>
        </p:nvSpPr>
        <p:spPr>
          <a:xfrm>
            <a:off x="7040520" y="6570720"/>
            <a:ext cx="1824120" cy="617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ub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7" name="Straight Arrow Connector 19"/>
          <p:cNvCxnSpPr/>
          <p:nvPr/>
        </p:nvCxnSpPr>
        <p:spPr>
          <a:xfrm flipV="1">
            <a:off x="342000" y="3047760"/>
            <a:ext cx="2603520" cy="35186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8" name="TextBox 20"/>
          <p:cNvSpPr/>
          <p:nvPr/>
        </p:nvSpPr>
        <p:spPr>
          <a:xfrm rot="18462600">
            <a:off x="-465480" y="423036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th of Pro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7050-FB1A-48E7-9BCC-4515FAEA7E5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Increasing SoA Complexit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2" name="Oval 5"/>
          <p:cNvSpPr/>
          <p:nvPr/>
        </p:nvSpPr>
        <p:spPr>
          <a:xfrm>
            <a:off x="998640" y="2865600"/>
            <a:ext cx="583920" cy="583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Box 6"/>
          <p:cNvSpPr/>
          <p:nvPr/>
        </p:nvSpPr>
        <p:spPr>
          <a:xfrm>
            <a:off x="271440" y="388620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7"/>
          <p:cNvSpPr/>
          <p:nvPr/>
        </p:nvSpPr>
        <p:spPr>
          <a:xfrm>
            <a:off x="2916360" y="3301920"/>
            <a:ext cx="583920" cy="584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8"/>
          <p:cNvSpPr/>
          <p:nvPr/>
        </p:nvSpPr>
        <p:spPr>
          <a:xfrm>
            <a:off x="2684520" y="388620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9"/>
          <p:cNvSpPr/>
          <p:nvPr/>
        </p:nvSpPr>
        <p:spPr>
          <a:xfrm>
            <a:off x="3919680" y="3314880"/>
            <a:ext cx="583920" cy="583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10"/>
          <p:cNvSpPr/>
          <p:nvPr/>
        </p:nvSpPr>
        <p:spPr>
          <a:xfrm>
            <a:off x="3424320" y="2451240"/>
            <a:ext cx="584280" cy="583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traight Connector 12"/>
          <p:cNvSpPr/>
          <p:nvPr/>
        </p:nvSpPr>
        <p:spPr>
          <a:xfrm>
            <a:off x="3500280" y="3594240"/>
            <a:ext cx="41940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15"/>
          <p:cNvSpPr/>
          <p:nvPr/>
        </p:nvSpPr>
        <p:spPr>
          <a:xfrm flipH="1" flipV="1">
            <a:off x="3922200" y="2949120"/>
            <a:ext cx="289080" cy="36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29"/>
          <p:cNvSpPr/>
          <p:nvPr/>
        </p:nvSpPr>
        <p:spPr>
          <a:xfrm>
            <a:off x="6222960" y="388620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Group 41"/>
          <p:cNvGrpSpPr/>
          <p:nvPr/>
        </p:nvGrpSpPr>
        <p:grpSpPr>
          <a:xfrm>
            <a:off x="5557680" y="2405160"/>
            <a:ext cx="3116520" cy="1473120"/>
            <a:chOff x="5557680" y="2405160"/>
            <a:chExt cx="3116520" cy="1473120"/>
          </a:xfrm>
        </p:grpSpPr>
        <p:sp>
          <p:nvSpPr>
            <p:cNvPr id="692" name="Rectangle 40"/>
            <p:cNvSpPr/>
            <p:nvPr/>
          </p:nvSpPr>
          <p:spPr>
            <a:xfrm>
              <a:off x="5557680" y="2405160"/>
              <a:ext cx="3116520" cy="1473120"/>
            </a:xfrm>
            <a:prstGeom prst="rect">
              <a:avLst/>
            </a:prstGeom>
            <a:solidFill>
              <a:srgbClr val="22228b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>
                  <a:alpha val="4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32"/>
            <p:cNvSpPr/>
            <p:nvPr/>
          </p:nvSpPr>
          <p:spPr>
            <a:xfrm>
              <a:off x="570132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Oval 33"/>
            <p:cNvSpPr/>
            <p:nvPr/>
          </p:nvSpPr>
          <p:spPr>
            <a:xfrm>
              <a:off x="644688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34"/>
            <p:cNvSpPr/>
            <p:nvPr/>
          </p:nvSpPr>
          <p:spPr>
            <a:xfrm>
              <a:off x="719208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Oval 35"/>
            <p:cNvSpPr/>
            <p:nvPr/>
          </p:nvSpPr>
          <p:spPr>
            <a:xfrm>
              <a:off x="7937640" y="25192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Oval 36"/>
            <p:cNvSpPr/>
            <p:nvPr/>
          </p:nvSpPr>
          <p:spPr>
            <a:xfrm>
              <a:off x="570132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37"/>
            <p:cNvSpPr/>
            <p:nvPr/>
          </p:nvSpPr>
          <p:spPr>
            <a:xfrm>
              <a:off x="644688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38"/>
            <p:cNvSpPr/>
            <p:nvPr/>
          </p:nvSpPr>
          <p:spPr>
            <a:xfrm>
              <a:off x="719208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Oval 39"/>
            <p:cNvSpPr/>
            <p:nvPr/>
          </p:nvSpPr>
          <p:spPr>
            <a:xfrm>
              <a:off x="7937640" y="3179880"/>
              <a:ext cx="584280" cy="584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Right Arrow 42"/>
          <p:cNvSpPr/>
          <p:nvPr/>
        </p:nvSpPr>
        <p:spPr>
          <a:xfrm>
            <a:off x="2044800" y="288288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ight Arrow 43"/>
          <p:cNvSpPr/>
          <p:nvPr/>
        </p:nvSpPr>
        <p:spPr>
          <a:xfrm>
            <a:off x="4711680" y="289548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3403440" y="5321160"/>
            <a:ext cx="508320" cy="5083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45"/>
          <p:cNvSpPr/>
          <p:nvPr/>
        </p:nvSpPr>
        <p:spPr>
          <a:xfrm>
            <a:off x="3924360" y="6286680"/>
            <a:ext cx="507960" cy="50796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46"/>
          <p:cNvSpPr/>
          <p:nvPr/>
        </p:nvSpPr>
        <p:spPr>
          <a:xfrm>
            <a:off x="2895480" y="6299280"/>
            <a:ext cx="507960" cy="50796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traight Connector 47"/>
          <p:cNvSpPr/>
          <p:nvPr/>
        </p:nvSpPr>
        <p:spPr>
          <a:xfrm>
            <a:off x="3657600" y="5829480"/>
            <a:ext cx="52056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Straight Connector 48"/>
          <p:cNvSpPr/>
          <p:nvPr/>
        </p:nvSpPr>
        <p:spPr>
          <a:xfrm flipH="1">
            <a:off x="3149280" y="5829480"/>
            <a:ext cx="50796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55"/>
          <p:cNvSpPr/>
          <p:nvPr/>
        </p:nvSpPr>
        <p:spPr>
          <a:xfrm>
            <a:off x="990720" y="5334120"/>
            <a:ext cx="50796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56"/>
          <p:cNvSpPr/>
          <p:nvPr/>
        </p:nvSpPr>
        <p:spPr>
          <a:xfrm>
            <a:off x="1511280" y="6299280"/>
            <a:ext cx="50796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57"/>
          <p:cNvSpPr/>
          <p:nvPr/>
        </p:nvSpPr>
        <p:spPr>
          <a:xfrm>
            <a:off x="482760" y="6311880"/>
            <a:ext cx="507960" cy="50796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Straight Connector 58"/>
          <p:cNvSpPr/>
          <p:nvPr/>
        </p:nvSpPr>
        <p:spPr>
          <a:xfrm>
            <a:off x="1243800" y="5842080"/>
            <a:ext cx="5209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traight Connector 59"/>
          <p:cNvSpPr/>
          <p:nvPr/>
        </p:nvSpPr>
        <p:spPr>
          <a:xfrm flipH="1">
            <a:off x="736200" y="5842080"/>
            <a:ext cx="507960" cy="46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60"/>
          <p:cNvSpPr/>
          <p:nvPr/>
        </p:nvSpPr>
        <p:spPr>
          <a:xfrm>
            <a:off x="216000" y="7035840"/>
            <a:ext cx="209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61"/>
          <p:cNvSpPr/>
          <p:nvPr/>
        </p:nvSpPr>
        <p:spPr>
          <a:xfrm>
            <a:off x="2637000" y="7035840"/>
            <a:ext cx="216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Depar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62"/>
          <p:cNvSpPr/>
          <p:nvPr/>
        </p:nvSpPr>
        <p:spPr>
          <a:xfrm>
            <a:off x="6070680" y="58420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63"/>
          <p:cNvSpPr/>
          <p:nvPr/>
        </p:nvSpPr>
        <p:spPr>
          <a:xfrm>
            <a:off x="6337440" y="6464160"/>
            <a:ext cx="330120" cy="33048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64"/>
          <p:cNvSpPr/>
          <p:nvPr/>
        </p:nvSpPr>
        <p:spPr>
          <a:xfrm>
            <a:off x="5829480" y="645156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65"/>
          <p:cNvSpPr/>
          <p:nvPr/>
        </p:nvSpPr>
        <p:spPr>
          <a:xfrm>
            <a:off x="6234840" y="6172200"/>
            <a:ext cx="26676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traight Connector 66"/>
          <p:cNvSpPr/>
          <p:nvPr/>
        </p:nvSpPr>
        <p:spPr>
          <a:xfrm flipH="1">
            <a:off x="5994360" y="6172200"/>
            <a:ext cx="24120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70"/>
          <p:cNvSpPr/>
          <p:nvPr/>
        </p:nvSpPr>
        <p:spPr>
          <a:xfrm>
            <a:off x="6858000" y="5232240"/>
            <a:ext cx="330120" cy="33048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71"/>
          <p:cNvSpPr/>
          <p:nvPr/>
        </p:nvSpPr>
        <p:spPr>
          <a:xfrm>
            <a:off x="7124760" y="58546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72"/>
          <p:cNvSpPr/>
          <p:nvPr/>
        </p:nvSpPr>
        <p:spPr>
          <a:xfrm>
            <a:off x="6616800" y="58420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traight Connector 73"/>
          <p:cNvSpPr/>
          <p:nvPr/>
        </p:nvSpPr>
        <p:spPr>
          <a:xfrm>
            <a:off x="7023240" y="5562720"/>
            <a:ext cx="26640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traight Connector 74"/>
          <p:cNvSpPr/>
          <p:nvPr/>
        </p:nvSpPr>
        <p:spPr>
          <a:xfrm flipH="1">
            <a:off x="6781320" y="5562720"/>
            <a:ext cx="24156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75"/>
          <p:cNvSpPr/>
          <p:nvPr/>
        </p:nvSpPr>
        <p:spPr>
          <a:xfrm>
            <a:off x="7683480" y="584208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76"/>
          <p:cNvSpPr/>
          <p:nvPr/>
        </p:nvSpPr>
        <p:spPr>
          <a:xfrm>
            <a:off x="7950240" y="6464160"/>
            <a:ext cx="330120" cy="33048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77"/>
          <p:cNvSpPr/>
          <p:nvPr/>
        </p:nvSpPr>
        <p:spPr>
          <a:xfrm>
            <a:off x="7442280" y="6451560"/>
            <a:ext cx="330120" cy="330120"/>
          </a:xfrm>
          <a:prstGeom prst="rect">
            <a:avLst/>
          </a:prstGeom>
          <a:solidFill>
            <a:srgbClr val="22228b"/>
          </a:solidFill>
          <a:ln w="9360">
            <a:solidFill>
              <a:srgbClr val="000000"/>
            </a:solidFill>
            <a:round/>
          </a:ln>
          <a:effectLst>
            <a:outerShdw dist="10182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traight Connector 78"/>
          <p:cNvSpPr/>
          <p:nvPr/>
        </p:nvSpPr>
        <p:spPr>
          <a:xfrm>
            <a:off x="7848000" y="6172200"/>
            <a:ext cx="26676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Straight Connector 79"/>
          <p:cNvSpPr/>
          <p:nvPr/>
        </p:nvSpPr>
        <p:spPr>
          <a:xfrm flipH="1">
            <a:off x="7606800" y="6172200"/>
            <a:ext cx="241560" cy="27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Box 80"/>
          <p:cNvSpPr/>
          <p:nvPr/>
        </p:nvSpPr>
        <p:spPr>
          <a:xfrm>
            <a:off x="5799240" y="7035840"/>
            <a:ext cx="249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Organisations/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ight Arrow 81"/>
          <p:cNvSpPr/>
          <p:nvPr/>
        </p:nvSpPr>
        <p:spPr>
          <a:xfrm>
            <a:off x="4775040" y="535932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ight Arrow 82"/>
          <p:cNvSpPr/>
          <p:nvPr/>
        </p:nvSpPr>
        <p:spPr>
          <a:xfrm>
            <a:off x="2184480" y="5372280"/>
            <a:ext cx="546120" cy="457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Repositories &amp; Registr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4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A01C-2649-4759-A870-5F1F6D6E82A2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positorie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used to store assets such 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SDL, XSD  and BPEL fi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2440" indent="-43992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vice policies and metada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gistries are used to store references to the IT services themselv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terprise systems rely upon federated resourc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39:29Z</dcterms:created>
  <dc:creator>C Smythe</dc:creator>
  <dc:description/>
  <dc:language>en-US</dc:language>
  <cp:lastModifiedBy>Colin Smythe</cp:lastModifiedBy>
  <cp:lastPrinted>2008-02-19T11:08:18Z</cp:lastPrinted>
  <dcterms:modified xsi:type="dcterms:W3CDTF">2009-06-10T20:31:28Z</dcterms:modified>
  <cp:revision>271</cp:revision>
  <dc:subject/>
  <dc:title>No Slide Title</dc:title>
</cp:coreProperties>
</file>