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9144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dt" idx="2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 type="sldImg"/>
          </p:nvPr>
        </p:nvSpPr>
        <p:spPr>
          <a:xfrm>
            <a:off x="1714320" y="685440"/>
            <a:ext cx="3429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 type="ftr" idx="2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 type="sldNum" idx="2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088B0-FD9A-4BDA-BE60-F58317A74E8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EBB11-19E5-45EB-A623-4EC0F2987B2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058F7-8B79-4B21-98EE-26CF903084C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0FCF4-86D8-475F-BB19-A01E9A21AA9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0B850-21E4-4A9B-A2D8-D66F6C62C98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B2951-3752-4C01-BB76-3603986CEE2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A8F1D-5532-4B14-AC3B-2204D994DCD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8F996-74E9-4996-8735-4B54316FF85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F6AE3-DC6F-49BB-AB2E-0903F94EBC8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CEC07-6261-43D2-8FDF-14A0478FC5F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388A7-AC19-4AF4-A5D9-E02DED39221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EA16B-2B52-482A-9811-5B9E581A152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5243D-853A-459B-8D6D-60509E51072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2E9F2-82F6-4C5B-9AFA-B17940C20D5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B3A8F-1CF8-4885-A799-4AB8584F63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2191B-3C77-43E5-9D06-374259A1123C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FB04A4-C007-48B8-912A-3A2EEFD8672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1078D7-868E-4F24-A0E7-3B5B4C9A993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4ED5A6-C5ED-4C0F-8F1A-BF1CDC3F8A9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59C69F-1558-4355-9584-01B45ECB45E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D444F1-7242-4C1B-A9A3-1F695321DB7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11174F-668C-4799-B50D-0B85CA09CCB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0589F1-FB1B-47C2-B943-DB3E9677B13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7D48D8-903B-4BF1-BAED-CFCD42A6E01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A17B0F-ECE3-4E64-A7A3-A485BDD893F8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88114E-B8C5-4FD4-9F5D-15FA71E561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B8B34-05A9-49EF-BBCC-4DC36DE6D366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131976-A7FF-4377-9D80-D4F19B4665EB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CFE384-2AAE-4240-85E7-DE70D826BEFE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EF33FB-9CF7-42F1-9AA9-A77017C02BC1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C0054D-22EF-43E7-95B3-82896100BF11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C93C8D-390D-4E44-956A-7722CDA43FFE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CF46C5-7C95-4B82-B132-416A54C1094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E67E75-CF91-4B90-8475-2C6115CC5EB1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1A6F15-A232-4B69-B5BA-B8888AEE0E49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22784D-A80A-460F-BC4B-E4FCF95EB535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1D6359-A2A0-4D6E-8B54-43273EE44A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682AF-6C81-4DC4-9FBF-17D5109B3073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C9CAD1-4ACA-468E-9896-4F0D4228B010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65415EE-48D4-4E9F-B527-A7979EA63FA2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CE7DB66-9188-4BC5-847E-8D94ED942DC0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476B7E0-C0B8-47CD-91EF-5D0D66CD8C5F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D071F93-B945-4000-ADF7-E2336F050BD4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93762C5-08E8-40FE-960A-AFCC4D57B94E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CAA30E8-6DD6-480B-9E5B-E9CCC19C658B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4305696-A377-4D6B-9815-309E3B6529ED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75A8B4D-7FC7-454D-B657-4150B02F8691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06C6EE8-4BE4-4A3A-A2C1-0CC2A83895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FDA7D2-66FB-42DB-87FC-BE2352F25E72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120961E-AB6F-49F8-AFF5-45D8B957CD18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A39D5FD-E27D-42B0-B3CE-4C7607EBCA7C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B62A55D-DDB4-4578-B87D-E99E9724F518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8949BD-CF2E-4A3F-9322-CFD60E227995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622B8C-D176-4FDD-878D-6A9F833EEF0C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0BF267-50E1-44B8-849A-D600D1211995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D35875-D769-4233-90B9-33FE709F6231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3DBBF8-5936-46B3-BEF6-12D59BF062A4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9710B4-A2F1-495F-89A6-E5A4395EFCFC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7FE9EC-83BB-40D2-AE51-1B698A92741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CCD751-F84D-44AF-940E-2A0377E9ED3E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75C7E8-024A-4CB0-BF24-714EA151A6E6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560F88-054A-49C4-9F55-EAF29E0B6E9B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5200D6-78EB-4305-BCA1-4CFB1AAD9CAD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91CEE7-A537-4B63-8136-491F3A642C4F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45F3EF-45A0-49ED-ADC2-E05ACE5C2B5A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F26A328-AE39-4B38-B753-B93271F3E5E2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507544E-F2A8-4BDF-BAC7-4900C2EA67CF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71DB8AB-EA33-4378-B523-62A48012D76B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6B9F79C-378E-4C3B-8A08-4F08D72335E5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4558AF7-E822-4DBD-8FBF-69D1E9488E4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6D5975-ADD2-4D47-BC88-A73A0998F6D7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75E06F-8F6D-44FA-8D16-B38419ACF369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F57AE9E-C452-42BA-8B58-7651DF4F17DD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D5AB7FB-BE1D-4E8C-B15F-3E75EB896256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86FC582-43F3-4CC4-8ABC-453ADD100D2D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40AD1C0-9EE1-4FD6-BE65-9A6B0A8D505C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4F88131-BB75-4F93-AD2A-32AF614EC059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99FD7FD-A279-4E34-8AFD-205B38F62B1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07F76E-725B-4FD6-B933-536C3C144CB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A17018-02A8-4B68-9F93-0627A76244C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1AF8CF-28E2-4076-A2AE-058F41E530A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23F521-B51F-425F-8DC9-2D2F11590D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43CB2-2077-4B75-B733-9664E06084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DCB2DA-0E8A-4C85-A3C5-40C7879033D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73C99B-AD20-40EE-A7FF-5C0324D3BF2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2F29C6-FB64-4C5D-8A96-1784C85AD44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D160EA-CD7F-4B7D-B68A-5FCFBCFC524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1E47BC-78B2-419D-826D-A9AEFFC979D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D2BBD-2702-4185-9618-6DB597839F6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37F5E-CEE3-458F-A1F2-123BE3BDA71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E44D9-3C13-411C-8B29-6B9230C7BD3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B533D-3591-4EB5-B46C-FAE70EF57EC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83C8E-F6AE-416E-9FA8-4B33CD0082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DFBC2-D48A-45D5-97E1-D55A92C6F6D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74A73-1559-4EF1-90C9-351EB4D76A2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7A0D4-2CE3-4E5A-BD79-2B5FAC9095E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B9737-1728-4735-930F-F9415904DC2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09585-531F-4EA7-A8B5-D4F3AB99033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1FBD8-C16A-474B-832E-17E07A043EF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4B23E-A223-46B5-87A9-ED4A92F526F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9F010-FBCD-42CA-A168-7126CAA9BAA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849F36-7FD6-40F4-88B8-9A1CE54F926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1806CE-23EE-435F-9052-E5E43B1E9CB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2048B8-AB55-4192-B999-1FBFF1AC31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00065-F098-42EE-BF55-2A82DBE1AA2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F48213-8B33-4962-99CE-9486D00BE41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AAC499-5FAE-473F-94E1-32DA4520FE9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DEFD10-28A3-427C-93E7-A6A9CBE2F03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3D5A75-90F5-4340-90AB-D25E4D771C0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8D07EE-B8D9-4DC1-95C3-0023E0C5D66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B230C2-F69F-4B29-97AD-A4D662274CB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11F567-7FEC-4C46-A631-312220565B7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B1FBFA-13D3-44B1-BEE6-65E75696CAC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6426E0-83A3-4142-8DFC-92FD7F5CEEB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F160B8-9C6F-402F-979B-E27F062927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1CC63-642F-416D-A4A0-9BC9AC8CAB3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CF37E9-3891-43C3-9357-2BE22A1922D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DB7574-1844-4EFA-8876-D1268E841BE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22E7E7-962A-4A6A-ABF3-C4D44360F00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BEE86B-151C-4567-89D9-0E752B2BAC7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FD6A6E-C74F-46A9-B3A0-57717C3DAE2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83DC58-A0D9-49F8-A37A-AA67CFF3DB2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0007B9-3866-487A-A6F6-E9D6C1C28A0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9E3023-31D4-4D35-8B86-0E9B80B373A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750E63-D55E-4A2F-90EE-88EC75B06B3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1F74B0-F4F7-4A7D-BD15-ACD0F5F210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BAFBD-6E48-4F48-8EC1-897FA91A283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F96F4C-E15B-4DAC-B724-52020933C4B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7518B-2CFB-4C5C-9941-30DAA8B8F41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D9245-2C9F-49F8-93CF-6A6AEA51A66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2920D-2782-4035-8B6D-A2394C2956E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98024-9087-4F0B-A51B-2B85C0E8854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F52A5-38D1-425A-83E8-14CC40C4051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2DA1D-110F-4641-AA14-E27A9812E5E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0A739-26D1-4311-AF18-1BC1088E19A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F801A-7A33-44B6-A494-3F7693B7AF4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25213-3458-470D-9677-0501B76488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3B0B7-F8FA-46CD-AAEC-0341BCB2D39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98768-12F0-45CE-B2B9-F4ACAB915F3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CFB7F-5766-451C-8179-D1336DE176A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31FFD-C539-4622-88F9-93CABD45CBD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B56A02-8BD3-4617-B508-2EF8CC9A1B5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7F10EC-4CCF-429C-8194-6FFCC00AC85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49C0CD-0510-45CF-A864-7A977B7783C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D59E7A-4F0D-4F0E-8095-11FC34E2BF7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E07680-7D65-4BC3-A3AD-13EFFDCF9A8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6DB4E8-5198-480D-BE26-DC727AF60BF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6BF614-FB95-4C33-A138-8472D242E9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D47EA-66CA-4706-B5DC-FF89AD87985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416834-9E6D-469D-AFA2-B5035502263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C4FE4D-F4E7-43A6-952B-172D629F324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6D38A4-4652-4135-905F-CD46A775BA0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F16BF9-EB66-4738-91F4-43625BCF0BE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37C9D5-E16B-4630-A092-D71F24C3A5C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5934D16-1F2C-483B-B14A-4827CF214C7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A363AB5-1221-4A76-8CE0-462B8EED2BE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DE5B7F3-C1AF-416F-A701-E229C9CD5EB7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54CB2E0-2EDD-481A-8959-0FDA922EC1D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A6E7540-7C06-47D2-A302-8697895EA9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FA867-ECF1-4DA8-9CC9-6B353E88E142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0362BDB-3950-48E4-A8E8-BF0602AE31AF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5A133B8-F43E-42F0-A374-05E8B45CFCD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78B9283-C184-47E2-9F6D-FD42983995C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EAB2C84-A04F-4DFE-BC84-CC718E2342A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66642C1-1042-4C90-968B-D597B8CCB34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2EE3A79-F2BB-481D-BB26-28F0430F06EE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AEEE833-C531-40A3-B911-3ABAAEF3951E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9237AB-DD8E-4A79-8C1C-193EC26B64E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EFFC16-04A6-46B2-BA8A-262C2018ECC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D45EA7-8C4E-4AB1-9CD4-0704AD204F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38124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6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4F733-EC78-4B44-B023-3A0E0035C93A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11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8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38124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ftr" idx="19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6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sldNum" idx="20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5CB0F-0823-4839-80D4-6DBB60E48C35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487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38124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ftr" idx="21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6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sldNum" idx="22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51EA3-DEEB-4B0F-B384-29085EFD8132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4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535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38124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ftr" idx="23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6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sldNum" idx="24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24DCC-34C6-4479-8AE2-07720841B6C9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2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583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38124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ftr" idx="25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6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 type="sldNum" idx="26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2EC3F-756A-40C8-BDD3-D8791135A377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38124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3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6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4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743C6-3615-4F47-898F-F053CE46D7C7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38124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ftr" idx="5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6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6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7CED8-7CDD-4509-8B23-2491CF268FC0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38124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ftr" idx="7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6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sldNum" idx="8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3DAF0-8A92-4E6C-AD71-A8F3CD615C3F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38124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ftr" idx="9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6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sldNum" idx="10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17763-057C-47BC-A4F2-BB3362CADFAD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38124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ftr" idx="11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6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sldNum" idx="12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E7F0A-1EE6-48D6-8F1C-72AF4849268A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38124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ftr" idx="13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6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sldNum" idx="14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3176E-1F22-44B3-85F5-F3E2D069C5A4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38124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ftr" idx="15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6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sldNum" idx="16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B766F-7001-4D19-B833-D2C34C1A9395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391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38124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ftr" idx="17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6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sldNum" idx="18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A9270-09C5-4D48-B14D-D76DAC1E21CB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6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EC93F-9261-4114-9208-3339BF609408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93480" y="1794960"/>
            <a:ext cx="8227800" cy="350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808080"/>
                </a:solidFill>
                <a:latin typeface="Times New Roman"/>
              </a:rPr>
              <a:t>Service-oriented Architecture (SoA):</a:t>
            </a:r>
            <a:br>
              <a:rPr sz="4000"/>
            </a:br>
            <a:r>
              <a:rPr b="1" lang="en-GB" sz="4000" spc="-1" strike="noStrike">
                <a:solidFill>
                  <a:srgbClr val="808080"/>
                </a:solidFill>
                <a:latin typeface="Times New Roman"/>
              </a:rPr>
              <a:t>Preparing Your Business &amp; IT Products</a:t>
            </a:r>
            <a:br>
              <a:rPr sz="3200"/>
            </a:br>
            <a:br>
              <a:rPr sz="3200"/>
            </a:br>
            <a:r>
              <a:rPr b="1" lang="en-GB" sz="4800" spc="-1" strike="noStrike">
                <a:solidFill>
                  <a:srgbClr val="808080"/>
                </a:solidFill>
                <a:latin typeface="Times New Roman"/>
              </a:rPr>
              <a:t>Session 6 – Core Technology</a:t>
            </a:r>
            <a:endParaRPr b="1" lang="en-US" sz="4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583920" y="6392880"/>
            <a:ext cx="806436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r Colin Smyth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unelm Services Ltd (colin@dunelm.com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5" name="Picture 5" descr="88x31.png"/>
          <p:cNvPicPr/>
          <p:nvPr/>
        </p:nvPicPr>
        <p:blipFill>
          <a:blip r:embed="rId1"/>
          <a:stretch/>
        </p:blipFill>
        <p:spPr>
          <a:xfrm>
            <a:off x="469800" y="7835760"/>
            <a:ext cx="1422360" cy="5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6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69D11-B1BF-4C17-9D3D-DEE48D8369BC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APIs, Protocols and Interface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grpSp>
        <p:nvGrpSpPr>
          <p:cNvPr id="765" name="Group 72"/>
          <p:cNvGrpSpPr/>
          <p:nvPr/>
        </p:nvGrpSpPr>
        <p:grpSpPr>
          <a:xfrm>
            <a:off x="6091200" y="4151160"/>
            <a:ext cx="2851200" cy="838440"/>
            <a:chOff x="6091200" y="4151160"/>
            <a:chExt cx="2851200" cy="838440"/>
          </a:xfrm>
        </p:grpSpPr>
        <p:grpSp>
          <p:nvGrpSpPr>
            <p:cNvPr id="766" name="Group 73"/>
            <p:cNvGrpSpPr/>
            <p:nvPr/>
          </p:nvGrpSpPr>
          <p:grpSpPr>
            <a:xfrm>
              <a:off x="6091200" y="4151160"/>
              <a:ext cx="1361880" cy="838440"/>
              <a:chOff x="6091200" y="4151160"/>
              <a:chExt cx="1361880" cy="838440"/>
            </a:xfrm>
          </p:grpSpPr>
          <p:sp>
            <p:nvSpPr>
              <p:cNvPr id="767" name="Rectangle 74"/>
              <p:cNvSpPr/>
              <p:nvPr/>
            </p:nvSpPr>
            <p:spPr>
              <a:xfrm>
                <a:off x="6091200" y="4151160"/>
                <a:ext cx="1361880" cy="838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Text Box 75"/>
              <p:cNvSpPr/>
              <p:nvPr/>
            </p:nvSpPr>
            <p:spPr>
              <a:xfrm>
                <a:off x="6108120" y="4259160"/>
                <a:ext cx="1299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On-the-wi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Interfac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9" name="Group 76"/>
            <p:cNvGrpSpPr/>
            <p:nvPr/>
          </p:nvGrpSpPr>
          <p:grpSpPr>
            <a:xfrm>
              <a:off x="7435800" y="4151160"/>
              <a:ext cx="1506600" cy="838080"/>
              <a:chOff x="7435800" y="4151160"/>
              <a:chExt cx="1506600" cy="838080"/>
            </a:xfrm>
          </p:grpSpPr>
          <p:sp>
            <p:nvSpPr>
              <p:cNvPr id="770" name="Rectangle 77"/>
              <p:cNvSpPr/>
              <p:nvPr/>
            </p:nvSpPr>
            <p:spPr>
              <a:xfrm>
                <a:off x="7435800" y="4151160"/>
                <a:ext cx="1506600" cy="83808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Text Box 78"/>
              <p:cNvSpPr/>
              <p:nvPr/>
            </p:nvSpPr>
            <p:spPr>
              <a:xfrm>
                <a:off x="7556760" y="4262040"/>
                <a:ext cx="1262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Provid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Applica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72" name="Group 79"/>
          <p:cNvGrpSpPr/>
          <p:nvPr/>
        </p:nvGrpSpPr>
        <p:grpSpPr>
          <a:xfrm>
            <a:off x="190440" y="4151160"/>
            <a:ext cx="4300560" cy="838080"/>
            <a:chOff x="190440" y="4151160"/>
            <a:chExt cx="4300560" cy="838080"/>
          </a:xfrm>
        </p:grpSpPr>
        <p:grpSp>
          <p:nvGrpSpPr>
            <p:cNvPr id="773" name="Group 80"/>
            <p:cNvGrpSpPr/>
            <p:nvPr/>
          </p:nvGrpSpPr>
          <p:grpSpPr>
            <a:xfrm>
              <a:off x="190440" y="4151160"/>
              <a:ext cx="1354320" cy="838080"/>
              <a:chOff x="190440" y="4151160"/>
              <a:chExt cx="1354320" cy="838080"/>
            </a:xfrm>
          </p:grpSpPr>
          <p:sp>
            <p:nvSpPr>
              <p:cNvPr id="774" name="Rectangle 81"/>
              <p:cNvSpPr/>
              <p:nvPr/>
            </p:nvSpPr>
            <p:spPr>
              <a:xfrm>
                <a:off x="190440" y="4151160"/>
                <a:ext cx="1354320" cy="838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Text Box 82"/>
              <p:cNvSpPr/>
              <p:nvPr/>
            </p:nvSpPr>
            <p:spPr>
              <a:xfrm>
                <a:off x="236880" y="4227120"/>
                <a:ext cx="1262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Consum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Applica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6" name="Group 83"/>
            <p:cNvGrpSpPr/>
            <p:nvPr/>
          </p:nvGrpSpPr>
          <p:grpSpPr>
            <a:xfrm>
              <a:off x="3129120" y="4151160"/>
              <a:ext cx="1361880" cy="838080"/>
              <a:chOff x="3129120" y="4151160"/>
              <a:chExt cx="1361880" cy="838080"/>
            </a:xfrm>
          </p:grpSpPr>
          <p:sp>
            <p:nvSpPr>
              <p:cNvPr id="777" name="Rectangle 84"/>
              <p:cNvSpPr/>
              <p:nvPr/>
            </p:nvSpPr>
            <p:spPr>
              <a:xfrm>
                <a:off x="3129120" y="4151160"/>
                <a:ext cx="136188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Text Box 85"/>
              <p:cNvSpPr/>
              <p:nvPr/>
            </p:nvSpPr>
            <p:spPr>
              <a:xfrm>
                <a:off x="3146040" y="4258800"/>
                <a:ext cx="1299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On-the-wi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Interfac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9" name="Group 86"/>
            <p:cNvGrpSpPr/>
            <p:nvPr/>
          </p:nvGrpSpPr>
          <p:grpSpPr>
            <a:xfrm>
              <a:off x="2085840" y="4151160"/>
              <a:ext cx="1041480" cy="838080"/>
              <a:chOff x="2085840" y="4151160"/>
              <a:chExt cx="1041480" cy="838080"/>
            </a:xfrm>
          </p:grpSpPr>
          <p:sp>
            <p:nvSpPr>
              <p:cNvPr id="780" name="Rectangle 87"/>
              <p:cNvSpPr/>
              <p:nvPr/>
            </p:nvSpPr>
            <p:spPr>
              <a:xfrm>
                <a:off x="2085840" y="4151160"/>
                <a:ext cx="1041480" cy="838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Text Box 88"/>
              <p:cNvSpPr/>
              <p:nvPr/>
            </p:nvSpPr>
            <p:spPr>
              <a:xfrm>
                <a:off x="2147400" y="4386240"/>
                <a:ext cx="91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Adapt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2" name="Group 89"/>
            <p:cNvGrpSpPr/>
            <p:nvPr/>
          </p:nvGrpSpPr>
          <p:grpSpPr>
            <a:xfrm>
              <a:off x="1528920" y="4151160"/>
              <a:ext cx="549000" cy="838080"/>
              <a:chOff x="1528920" y="4151160"/>
              <a:chExt cx="549000" cy="838080"/>
            </a:xfrm>
          </p:grpSpPr>
          <p:sp>
            <p:nvSpPr>
              <p:cNvPr id="783" name="Rectangle 90"/>
              <p:cNvSpPr/>
              <p:nvPr/>
            </p:nvSpPr>
            <p:spPr>
              <a:xfrm>
                <a:off x="1528920" y="4151160"/>
                <a:ext cx="549000" cy="8380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Text Box 91"/>
              <p:cNvSpPr/>
              <p:nvPr/>
            </p:nvSpPr>
            <p:spPr>
              <a:xfrm flipH="1" flipV="1">
                <a:off x="1566360" y="4162680"/>
                <a:ext cx="423720" cy="8136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Interfac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785" name="AutoShape 92"/>
          <p:cNvCxnSpPr/>
          <p:nvPr/>
        </p:nvCxnSpPr>
        <p:spPr>
          <a:xfrm>
            <a:off x="4490640" y="4570200"/>
            <a:ext cx="16009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86" name="Text Box 93"/>
          <p:cNvSpPr/>
          <p:nvPr/>
        </p:nvSpPr>
        <p:spPr>
          <a:xfrm>
            <a:off x="4459680" y="4141800"/>
            <a:ext cx="167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-the-w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7" name="Group 94"/>
          <p:cNvGrpSpPr/>
          <p:nvPr/>
        </p:nvGrpSpPr>
        <p:grpSpPr>
          <a:xfrm>
            <a:off x="6068880" y="6335640"/>
            <a:ext cx="2851200" cy="853920"/>
            <a:chOff x="6068880" y="6335640"/>
            <a:chExt cx="2851200" cy="853920"/>
          </a:xfrm>
        </p:grpSpPr>
        <p:sp>
          <p:nvSpPr>
            <p:cNvPr id="788" name="Rectangle 95"/>
            <p:cNvSpPr/>
            <p:nvPr/>
          </p:nvSpPr>
          <p:spPr>
            <a:xfrm>
              <a:off x="6068880" y="6335640"/>
              <a:ext cx="136224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Text Box 96"/>
            <p:cNvSpPr/>
            <p:nvPr/>
          </p:nvSpPr>
          <p:spPr>
            <a:xfrm>
              <a:off x="6158160" y="6365520"/>
              <a:ext cx="1171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Jav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n-the-wi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Rectangle 97"/>
            <p:cNvSpPr/>
            <p:nvPr/>
          </p:nvSpPr>
          <p:spPr>
            <a:xfrm>
              <a:off x="7413840" y="6335640"/>
              <a:ext cx="1506240" cy="8380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Text Box 98"/>
            <p:cNvSpPr/>
            <p:nvPr/>
          </p:nvSpPr>
          <p:spPr>
            <a:xfrm>
              <a:off x="7512480" y="6470280"/>
              <a:ext cx="1308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Java-Provi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92" name="AutoShape 99"/>
          <p:cNvCxnSpPr/>
          <p:nvPr/>
        </p:nvCxnSpPr>
        <p:spPr>
          <a:xfrm>
            <a:off x="4468320" y="6754320"/>
            <a:ext cx="16009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93" name="Text Box 100"/>
          <p:cNvSpPr/>
          <p:nvPr/>
        </p:nvSpPr>
        <p:spPr>
          <a:xfrm>
            <a:off x="4703040" y="6337440"/>
            <a:ext cx="109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4" name="Group 101"/>
          <p:cNvGrpSpPr/>
          <p:nvPr/>
        </p:nvGrpSpPr>
        <p:grpSpPr>
          <a:xfrm>
            <a:off x="168120" y="6335640"/>
            <a:ext cx="4300200" cy="838080"/>
            <a:chOff x="168120" y="6335640"/>
            <a:chExt cx="4300200" cy="838080"/>
          </a:xfrm>
        </p:grpSpPr>
        <p:sp>
          <p:nvSpPr>
            <p:cNvPr id="795" name="Rectangle 102"/>
            <p:cNvSpPr/>
            <p:nvPr/>
          </p:nvSpPr>
          <p:spPr>
            <a:xfrm>
              <a:off x="3106440" y="6335640"/>
              <a:ext cx="13618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Text Box 103"/>
            <p:cNvSpPr/>
            <p:nvPr/>
          </p:nvSpPr>
          <p:spPr>
            <a:xfrm>
              <a:off x="3198600" y="6340320"/>
              <a:ext cx="1171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#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n-the-wi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Rectangle 104"/>
            <p:cNvSpPr/>
            <p:nvPr/>
          </p:nvSpPr>
          <p:spPr>
            <a:xfrm>
              <a:off x="1506240" y="6335640"/>
              <a:ext cx="54936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Text Box 105"/>
            <p:cNvSpPr/>
            <p:nvPr/>
          </p:nvSpPr>
          <p:spPr>
            <a:xfrm flipH="1" flipV="1">
              <a:off x="1416960" y="6346800"/>
              <a:ext cx="667080" cy="813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#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Rectangle 106"/>
            <p:cNvSpPr/>
            <p:nvPr/>
          </p:nvSpPr>
          <p:spPr>
            <a:xfrm>
              <a:off x="168120" y="6335640"/>
              <a:ext cx="135396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Text Box 107"/>
            <p:cNvSpPr/>
            <p:nvPr/>
          </p:nvSpPr>
          <p:spPr>
            <a:xfrm>
              <a:off x="193680" y="6435360"/>
              <a:ext cx="1303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# Consu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Rectangle 108"/>
            <p:cNvSpPr/>
            <p:nvPr/>
          </p:nvSpPr>
          <p:spPr>
            <a:xfrm>
              <a:off x="2063520" y="6335640"/>
              <a:ext cx="1041480" cy="838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Text Box 109"/>
            <p:cNvSpPr/>
            <p:nvPr/>
          </p:nvSpPr>
          <p:spPr>
            <a:xfrm>
              <a:off x="2166840" y="6467400"/>
              <a:ext cx="834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C#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dap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3" name="Text Box 110"/>
          <p:cNvSpPr/>
          <p:nvPr/>
        </p:nvSpPr>
        <p:spPr>
          <a:xfrm>
            <a:off x="4291920" y="5194440"/>
            <a:ext cx="5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Text Box 111"/>
          <p:cNvSpPr/>
          <p:nvPr/>
        </p:nvSpPr>
        <p:spPr>
          <a:xfrm>
            <a:off x="4322160" y="7353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Line 112"/>
          <p:cNvSpPr/>
          <p:nvPr/>
        </p:nvSpPr>
        <p:spPr>
          <a:xfrm>
            <a:off x="3135240" y="3575160"/>
            <a:ext cx="0" cy="593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Line 113"/>
          <p:cNvSpPr/>
          <p:nvPr/>
        </p:nvSpPr>
        <p:spPr>
          <a:xfrm>
            <a:off x="7445520" y="3583080"/>
            <a:ext cx="0" cy="56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Line 114"/>
          <p:cNvSpPr/>
          <p:nvPr/>
        </p:nvSpPr>
        <p:spPr>
          <a:xfrm>
            <a:off x="2085840" y="3565440"/>
            <a:ext cx="0" cy="585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Line 115"/>
          <p:cNvSpPr/>
          <p:nvPr/>
        </p:nvSpPr>
        <p:spPr>
          <a:xfrm>
            <a:off x="1535040" y="3575160"/>
            <a:ext cx="0" cy="576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Line 116"/>
          <p:cNvSpPr/>
          <p:nvPr/>
        </p:nvSpPr>
        <p:spPr>
          <a:xfrm>
            <a:off x="3189240" y="3606840"/>
            <a:ext cx="42163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Text Box 117"/>
          <p:cNvSpPr/>
          <p:nvPr/>
        </p:nvSpPr>
        <p:spPr>
          <a:xfrm>
            <a:off x="4413600" y="2513160"/>
            <a:ext cx="13878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Line 118"/>
          <p:cNvSpPr/>
          <p:nvPr/>
        </p:nvSpPr>
        <p:spPr>
          <a:xfrm>
            <a:off x="2146320" y="360684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Line 120"/>
          <p:cNvSpPr/>
          <p:nvPr/>
        </p:nvSpPr>
        <p:spPr>
          <a:xfrm>
            <a:off x="1544760" y="3605040"/>
            <a:ext cx="4921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Text Box 121"/>
          <p:cNvSpPr/>
          <p:nvPr/>
        </p:nvSpPr>
        <p:spPr>
          <a:xfrm>
            <a:off x="622440" y="2144880"/>
            <a:ext cx="157464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(AP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4" name="AutoShape 122"/>
          <p:cNvCxnSpPr/>
          <p:nvPr/>
        </p:nvCxnSpPr>
        <p:spPr>
          <a:xfrm flipH="1">
            <a:off x="1785600" y="3149280"/>
            <a:ext cx="10080" cy="399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5" name="AutoShape 123"/>
          <p:cNvCxnSpPr/>
          <p:nvPr/>
        </p:nvCxnSpPr>
        <p:spPr>
          <a:xfrm flipH="1">
            <a:off x="2628720" y="3115800"/>
            <a:ext cx="2160" cy="467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6" name="AutoShape 124"/>
          <p:cNvCxnSpPr/>
          <p:nvPr/>
        </p:nvCxnSpPr>
        <p:spPr>
          <a:xfrm flipH="1">
            <a:off x="5125680" y="3141720"/>
            <a:ext cx="2160" cy="467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7" name="Text Box 119"/>
          <p:cNvSpPr/>
          <p:nvPr/>
        </p:nvSpPr>
        <p:spPr>
          <a:xfrm>
            <a:off x="2222640" y="2149560"/>
            <a:ext cx="132516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ap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6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49621-973A-4A45-B196-DA6E67852A70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Interoperability &amp; Innovation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-5173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Ease of developmen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874440" indent="-36972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Define clear and comprehensive service interfaces for internal and external us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74440" indent="-36972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eparate data from presentation informat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Promote interoperability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874440" indent="-36972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Publish some or all of each interface in the form of an API and WSDL fil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6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9FE96-3A88-443D-A2CB-1871F12AB26A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ombining Service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06520" indent="-506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Separation into services requires combination to realise business process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-506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Business Process Execution Language (BPEL) is used to choreograph/orchestrate servic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-506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Consider the nature of services/messaging i.e. synchronous, asynchronous, polled, etc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Straight Connector 36"/>
          <p:cNvSpPr/>
          <p:nvPr/>
        </p:nvSpPr>
        <p:spPr>
          <a:xfrm>
            <a:off x="1790640" y="2862360"/>
            <a:ext cx="5209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Straight Connector 40"/>
          <p:cNvSpPr/>
          <p:nvPr/>
        </p:nvSpPr>
        <p:spPr>
          <a:xfrm>
            <a:off x="1790640" y="4051440"/>
            <a:ext cx="5209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Straight Connector 41"/>
          <p:cNvSpPr/>
          <p:nvPr/>
        </p:nvSpPr>
        <p:spPr>
          <a:xfrm>
            <a:off x="1773360" y="6354720"/>
            <a:ext cx="5205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Straight Connector 42"/>
          <p:cNvSpPr/>
          <p:nvPr/>
        </p:nvSpPr>
        <p:spPr>
          <a:xfrm>
            <a:off x="1773360" y="5168880"/>
            <a:ext cx="52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Straight Connector 31"/>
          <p:cNvSpPr/>
          <p:nvPr/>
        </p:nvSpPr>
        <p:spPr>
          <a:xfrm>
            <a:off x="2324160" y="3174840"/>
            <a:ext cx="5205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Straight Connector 32"/>
          <p:cNvSpPr/>
          <p:nvPr/>
        </p:nvSpPr>
        <p:spPr>
          <a:xfrm>
            <a:off x="2311560" y="3936960"/>
            <a:ext cx="5205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Straight Connector 33"/>
          <p:cNvSpPr/>
          <p:nvPr/>
        </p:nvSpPr>
        <p:spPr>
          <a:xfrm>
            <a:off x="2311560" y="4660920"/>
            <a:ext cx="52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Straight Connector 34"/>
          <p:cNvSpPr/>
          <p:nvPr/>
        </p:nvSpPr>
        <p:spPr>
          <a:xfrm>
            <a:off x="2298600" y="5384880"/>
            <a:ext cx="5209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Straight Connector 35"/>
          <p:cNvSpPr/>
          <p:nvPr/>
        </p:nvSpPr>
        <p:spPr>
          <a:xfrm>
            <a:off x="2311560" y="6134040"/>
            <a:ext cx="5205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25"/>
          <p:cNvSpPr/>
          <p:nvPr/>
        </p:nvSpPr>
        <p:spPr>
          <a:xfrm>
            <a:off x="2806560" y="2286000"/>
            <a:ext cx="6007320" cy="57531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11"/>
          <p:cNvSpPr/>
          <p:nvPr/>
        </p:nvSpPr>
        <p:spPr>
          <a:xfrm>
            <a:off x="4013280" y="2502000"/>
            <a:ext cx="1879560" cy="4254480"/>
          </a:xfrm>
          <a:prstGeom prst="rect">
            <a:avLst/>
          </a:prstGeom>
          <a:solidFill>
            <a:srgbClr val="adade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TextBox 12"/>
          <p:cNvSpPr/>
          <p:nvPr/>
        </p:nvSpPr>
        <p:spPr>
          <a:xfrm rot="16200000">
            <a:off x="3759120" y="42346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processor and policy enforc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Enterprise Service Bu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39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6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4229B-96C0-4DCC-BC5C-F33BDA3C2F80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"/>
          <p:cNvSpPr/>
          <p:nvPr/>
        </p:nvSpPr>
        <p:spPr>
          <a:xfrm>
            <a:off x="190440" y="2502000"/>
            <a:ext cx="1879560" cy="749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A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6"/>
          <p:cNvSpPr/>
          <p:nvPr/>
        </p:nvSpPr>
        <p:spPr>
          <a:xfrm>
            <a:off x="2565360" y="2933640"/>
            <a:ext cx="2095560" cy="46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 Cha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7"/>
          <p:cNvSpPr/>
          <p:nvPr/>
        </p:nvSpPr>
        <p:spPr>
          <a:xfrm>
            <a:off x="2565360" y="3683160"/>
            <a:ext cx="2095560" cy="46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MI Cha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8"/>
          <p:cNvSpPr/>
          <p:nvPr/>
        </p:nvSpPr>
        <p:spPr>
          <a:xfrm>
            <a:off x="2577960" y="4406760"/>
            <a:ext cx="2095560" cy="47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S Cha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9"/>
          <p:cNvSpPr/>
          <p:nvPr/>
        </p:nvSpPr>
        <p:spPr>
          <a:xfrm>
            <a:off x="2565360" y="5130720"/>
            <a:ext cx="2095560" cy="47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MS Cha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10"/>
          <p:cNvSpPr/>
          <p:nvPr/>
        </p:nvSpPr>
        <p:spPr>
          <a:xfrm>
            <a:off x="2565360" y="5892840"/>
            <a:ext cx="2095560" cy="46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?? Cha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7" name="Rectangle 13" descr=""/>
          <p:cNvPicPr/>
          <p:nvPr/>
        </p:nvPicPr>
        <p:blipFill>
          <a:blip r:embed="rId1"/>
          <a:stretch/>
        </p:blipFill>
        <p:spPr>
          <a:xfrm>
            <a:off x="6248520" y="2494080"/>
            <a:ext cx="749160" cy="4271760"/>
          </a:xfrm>
          <a:prstGeom prst="rect">
            <a:avLst/>
          </a:prstGeom>
          <a:ln w="0">
            <a:noFill/>
          </a:ln>
        </p:spPr>
      </p:pic>
      <p:cxnSp>
        <p:nvCxnSpPr>
          <p:cNvPr id="848" name="Straight Arrow Connector 15"/>
          <p:cNvCxnSpPr>
            <a:stCxn id="836" idx="3"/>
            <a:endCxn id="847" idx="1"/>
          </p:cNvCxnSpPr>
          <p:nvPr/>
        </p:nvCxnSpPr>
        <p:spPr>
          <a:xfrm>
            <a:off x="5892480" y="4629240"/>
            <a:ext cx="3690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849" name="Rectangle 16"/>
          <p:cNvSpPr/>
          <p:nvPr/>
        </p:nvSpPr>
        <p:spPr>
          <a:xfrm>
            <a:off x="7391520" y="2489040"/>
            <a:ext cx="1257120" cy="430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TextBox 17"/>
          <p:cNvSpPr/>
          <p:nvPr/>
        </p:nvSpPr>
        <p:spPr>
          <a:xfrm>
            <a:off x="7391520" y="2502000"/>
            <a:ext cx="129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18"/>
          <p:cNvSpPr/>
          <p:nvPr/>
        </p:nvSpPr>
        <p:spPr>
          <a:xfrm>
            <a:off x="7454880" y="3289320"/>
            <a:ext cx="1104840" cy="1003320"/>
          </a:xfrm>
          <a:prstGeom prst="rect">
            <a:avLst/>
          </a:prstGeom>
          <a:solidFill>
            <a:srgbClr val="00009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19"/>
          <p:cNvSpPr/>
          <p:nvPr/>
        </p:nvSpPr>
        <p:spPr>
          <a:xfrm>
            <a:off x="7454880" y="5600880"/>
            <a:ext cx="1104840" cy="1002960"/>
          </a:xfrm>
          <a:prstGeom prst="rect">
            <a:avLst/>
          </a:prstGeom>
          <a:solidFill>
            <a:srgbClr val="00009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TextBox 20"/>
          <p:cNvSpPr/>
          <p:nvPr/>
        </p:nvSpPr>
        <p:spPr>
          <a:xfrm>
            <a:off x="7749360" y="449568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4" name="Straight Arrow Connector 21"/>
          <p:cNvCxnSpPr>
            <a:stCxn id="847" idx="3"/>
            <a:endCxn id="849" idx="1"/>
          </p:cNvCxnSpPr>
          <p:nvPr/>
        </p:nvCxnSpPr>
        <p:spPr>
          <a:xfrm>
            <a:off x="6984720" y="4628880"/>
            <a:ext cx="407160" cy="13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855" name="Rectangle 26"/>
          <p:cNvSpPr/>
          <p:nvPr/>
        </p:nvSpPr>
        <p:spPr>
          <a:xfrm>
            <a:off x="2921040" y="7493040"/>
            <a:ext cx="5740200" cy="46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27"/>
          <p:cNvSpPr/>
          <p:nvPr/>
        </p:nvSpPr>
        <p:spPr>
          <a:xfrm>
            <a:off x="2921040" y="6946920"/>
            <a:ext cx="5740200" cy="46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ialization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Straight Connector 29"/>
          <p:cNvSpPr/>
          <p:nvPr/>
        </p:nvSpPr>
        <p:spPr>
          <a:xfrm flipH="1">
            <a:off x="2309400" y="2224080"/>
            <a:ext cx="3240" cy="5956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37"/>
          <p:cNvSpPr/>
          <p:nvPr/>
        </p:nvSpPr>
        <p:spPr>
          <a:xfrm>
            <a:off x="190440" y="3657600"/>
            <a:ext cx="1879560" cy="749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e End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38"/>
          <p:cNvSpPr/>
          <p:nvPr/>
        </p:nvSpPr>
        <p:spPr>
          <a:xfrm>
            <a:off x="190440" y="4826160"/>
            <a:ext cx="1879560" cy="749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bile App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39"/>
          <p:cNvSpPr/>
          <p:nvPr/>
        </p:nvSpPr>
        <p:spPr>
          <a:xfrm>
            <a:off x="190440" y="5981760"/>
            <a:ext cx="1879560" cy="749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??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Over-the-Horizon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474840" y="2234880"/>
            <a:ext cx="818640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ull Enterprise Service Bu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filing of WS-* Standard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xtended REST-full capabiliti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ools support for WSDLv2.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mantic Web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S enabled network devic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oud computing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odel Driven Architectur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6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9CC78-0810-4635-9BC8-A0410F7E2D28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6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B8CA4-76C3-4E80-8A4C-B185B733924D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Summary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re Web Services approach based upon XML, SOAP, WSD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est practice based on the WS-I Basic Profile and support Profil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se, and separation, of interfaces and protocols to create flexible design for product innov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is a rapidly changing area of technology so stay informed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License &amp; Acknowledgement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70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6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444BD-2692-4AD4-BEF3-47B95A295AEF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2" name="Picture 8" descr="CCImage.tiff"/>
          <p:cNvPicPr/>
          <p:nvPr/>
        </p:nvPicPr>
        <p:blipFill>
          <a:blip r:embed="rId1"/>
          <a:stretch/>
        </p:blipFill>
        <p:spPr>
          <a:xfrm>
            <a:off x="1066680" y="2031840"/>
            <a:ext cx="6858000" cy="62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6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8B109-C0F6-47C9-A1BF-3B3460177E1A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Learning Objective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Explain what implementation technologies should be adopted in the short and mid ter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Explain the issues and concerns to be considered when looking to adopt Web Service solution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Explain how technical interoperability must be addressed to support innov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6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10F31-650A-4133-BA28-6083922083E9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ore Web Technologie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43" name="Rectangle 4"/>
          <p:cNvSpPr/>
          <p:nvPr/>
        </p:nvSpPr>
        <p:spPr>
          <a:xfrm>
            <a:off x="774720" y="2865600"/>
            <a:ext cx="1398600" cy="78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051000" y="2865600"/>
            <a:ext cx="1432080" cy="787320"/>
          </a:xfrm>
          <a:prstGeom prst="rect">
            <a:avLst/>
          </a:prstGeom>
          <a:solidFill>
            <a:srgbClr val="4fff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Rectangle 7"/>
          <p:cNvSpPr/>
          <p:nvPr/>
        </p:nvSpPr>
        <p:spPr>
          <a:xfrm>
            <a:off x="5207040" y="2865600"/>
            <a:ext cx="1396800" cy="787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SD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Rectangle 8"/>
          <p:cNvSpPr/>
          <p:nvPr/>
        </p:nvSpPr>
        <p:spPr>
          <a:xfrm>
            <a:off x="7215120" y="2865600"/>
            <a:ext cx="1395360" cy="7873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DD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7" name="AutoShape 9"/>
          <p:cNvCxnSpPr>
            <a:stCxn id="643" idx="3"/>
            <a:endCxn id="644" idx="1"/>
          </p:cNvCxnSpPr>
          <p:nvPr/>
        </p:nvCxnSpPr>
        <p:spPr>
          <a:xfrm>
            <a:off x="2173320" y="3258720"/>
            <a:ext cx="87840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8" name="AutoShape 10"/>
          <p:cNvCxnSpPr>
            <a:stCxn id="644" idx="3"/>
            <a:endCxn id="645" idx="1"/>
          </p:cNvCxnSpPr>
          <p:nvPr/>
        </p:nvCxnSpPr>
        <p:spPr>
          <a:xfrm>
            <a:off x="4482720" y="3258720"/>
            <a:ext cx="72468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9" name="AutoShape 11"/>
          <p:cNvCxnSpPr>
            <a:stCxn id="645" idx="3"/>
            <a:endCxn id="646" idx="1"/>
          </p:cNvCxnSpPr>
          <p:nvPr/>
        </p:nvCxnSpPr>
        <p:spPr>
          <a:xfrm>
            <a:off x="6603840" y="3258720"/>
            <a:ext cx="61200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0" name="AutoShape 12"/>
          <p:cNvSpPr/>
          <p:nvPr/>
        </p:nvSpPr>
        <p:spPr>
          <a:xfrm>
            <a:off x="1270080" y="3962520"/>
            <a:ext cx="554040" cy="322200"/>
          </a:xfrm>
          <a:prstGeom prst="downArrow">
            <a:avLst>
              <a:gd name="adj1" fmla="val 50000"/>
              <a:gd name="adj2" fmla="val 2788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AutoShape 13"/>
          <p:cNvSpPr/>
          <p:nvPr/>
        </p:nvSpPr>
        <p:spPr>
          <a:xfrm>
            <a:off x="3492360" y="3962520"/>
            <a:ext cx="552600" cy="322200"/>
          </a:xfrm>
          <a:prstGeom prst="downArrow">
            <a:avLst>
              <a:gd name="adj1" fmla="val 50000"/>
              <a:gd name="adj2" fmla="val 2788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AutoShape 14"/>
          <p:cNvSpPr/>
          <p:nvPr/>
        </p:nvSpPr>
        <p:spPr>
          <a:xfrm>
            <a:off x="5548320" y="3962520"/>
            <a:ext cx="552600" cy="322200"/>
          </a:xfrm>
          <a:prstGeom prst="downArrow">
            <a:avLst>
              <a:gd name="adj1" fmla="val 50000"/>
              <a:gd name="adj2" fmla="val 2788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AutoShape 15"/>
          <p:cNvSpPr/>
          <p:nvPr/>
        </p:nvSpPr>
        <p:spPr>
          <a:xfrm>
            <a:off x="7580160" y="3962520"/>
            <a:ext cx="552600" cy="322200"/>
          </a:xfrm>
          <a:prstGeom prst="downArrow">
            <a:avLst>
              <a:gd name="adj1" fmla="val 50000"/>
              <a:gd name="adj2" fmla="val 2788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16"/>
          <p:cNvSpPr/>
          <p:nvPr/>
        </p:nvSpPr>
        <p:spPr>
          <a:xfrm>
            <a:off x="177840" y="4527720"/>
            <a:ext cx="279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ta re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Text Box 17"/>
          <p:cNvSpPr/>
          <p:nvPr/>
        </p:nvSpPr>
        <p:spPr>
          <a:xfrm>
            <a:off x="2789280" y="4527720"/>
            <a:ext cx="202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ta messa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Text Box 18"/>
          <p:cNvSpPr/>
          <p:nvPr/>
        </p:nvSpPr>
        <p:spPr>
          <a:xfrm>
            <a:off x="4838760" y="4540320"/>
            <a:ext cx="201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ssa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Text Box 19"/>
          <p:cNvSpPr/>
          <p:nvPr/>
        </p:nvSpPr>
        <p:spPr>
          <a:xfrm>
            <a:off x="7167600" y="4527720"/>
            <a:ext cx="163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Rectangle 4"/>
          <p:cNvSpPr/>
          <p:nvPr/>
        </p:nvSpPr>
        <p:spPr>
          <a:xfrm>
            <a:off x="711360" y="6459480"/>
            <a:ext cx="1398600" cy="78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Rectangle 6"/>
          <p:cNvSpPr/>
          <p:nvPr/>
        </p:nvSpPr>
        <p:spPr>
          <a:xfrm>
            <a:off x="2987640" y="6459480"/>
            <a:ext cx="1432080" cy="787320"/>
          </a:xfrm>
          <a:prstGeom prst="rect">
            <a:avLst/>
          </a:prstGeom>
          <a:solidFill>
            <a:srgbClr val="4fff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Rectangle 7"/>
          <p:cNvSpPr/>
          <p:nvPr/>
        </p:nvSpPr>
        <p:spPr>
          <a:xfrm>
            <a:off x="5143680" y="6459480"/>
            <a:ext cx="1396800" cy="787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D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1" name="AutoShape 9"/>
          <p:cNvCxnSpPr>
            <a:stCxn id="658" idx="3"/>
            <a:endCxn id="659" idx="1"/>
          </p:cNvCxnSpPr>
          <p:nvPr/>
        </p:nvCxnSpPr>
        <p:spPr>
          <a:xfrm>
            <a:off x="2109960" y="6853320"/>
            <a:ext cx="87840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2" name="AutoShape 10"/>
          <p:cNvCxnSpPr>
            <a:stCxn id="659" idx="3"/>
            <a:endCxn id="660" idx="1"/>
          </p:cNvCxnSpPr>
          <p:nvPr/>
        </p:nvCxnSpPr>
        <p:spPr>
          <a:xfrm>
            <a:off x="4419360" y="6853320"/>
            <a:ext cx="72468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3" name="AutoShape 12"/>
          <p:cNvSpPr/>
          <p:nvPr/>
        </p:nvSpPr>
        <p:spPr>
          <a:xfrm rot="10800000">
            <a:off x="1180800" y="5854320"/>
            <a:ext cx="554040" cy="322200"/>
          </a:xfrm>
          <a:prstGeom prst="downArrow">
            <a:avLst>
              <a:gd name="adj1" fmla="val 50000"/>
              <a:gd name="adj2" fmla="val 2788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AutoShape 12"/>
          <p:cNvSpPr/>
          <p:nvPr/>
        </p:nvSpPr>
        <p:spPr>
          <a:xfrm rot="10800000">
            <a:off x="3428640" y="5867280"/>
            <a:ext cx="554040" cy="322560"/>
          </a:xfrm>
          <a:prstGeom prst="downArrow">
            <a:avLst>
              <a:gd name="adj1" fmla="val 50000"/>
              <a:gd name="adj2" fmla="val 2788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AutoShape 12"/>
          <p:cNvSpPr/>
          <p:nvPr/>
        </p:nvSpPr>
        <p:spPr>
          <a:xfrm rot="10800000">
            <a:off x="5574960" y="5867280"/>
            <a:ext cx="554040" cy="322560"/>
          </a:xfrm>
          <a:prstGeom prst="downArrow">
            <a:avLst>
              <a:gd name="adj1" fmla="val 50000"/>
              <a:gd name="adj2" fmla="val 2788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6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AF86B-BCBA-44F0-ABED-EF6910E15287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SOAP Message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69" name="Rectangle 4"/>
          <p:cNvSpPr/>
          <p:nvPr/>
        </p:nvSpPr>
        <p:spPr>
          <a:xfrm>
            <a:off x="297000" y="2070000"/>
            <a:ext cx="4325760" cy="58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a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xtensible - support various WS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d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mote Procedure Call or document-based payloa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ault c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vailable ver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OAP v1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OAP v1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0" name="Group 5"/>
          <p:cNvGrpSpPr/>
          <p:nvPr/>
        </p:nvGrpSpPr>
        <p:grpSpPr>
          <a:xfrm>
            <a:off x="4863960" y="1943280"/>
            <a:ext cx="3682800" cy="6120720"/>
            <a:chOff x="4863960" y="1943280"/>
            <a:chExt cx="3682800" cy="6120720"/>
          </a:xfrm>
        </p:grpSpPr>
        <p:sp>
          <p:nvSpPr>
            <p:cNvPr id="671" name="AutoShape 6"/>
            <p:cNvSpPr/>
            <p:nvPr/>
          </p:nvSpPr>
          <p:spPr>
            <a:xfrm rot="10800000">
              <a:off x="4863960" y="1943280"/>
              <a:ext cx="3682800" cy="6120720"/>
            </a:xfrm>
            <a:prstGeom prst="foldedCorner">
              <a:avLst>
                <a:gd name="adj" fmla="val 12500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AutoShape 7"/>
            <p:cNvSpPr/>
            <p:nvPr/>
          </p:nvSpPr>
          <p:spPr>
            <a:xfrm>
              <a:off x="5420880" y="2753640"/>
              <a:ext cx="2754360" cy="2266560"/>
            </a:xfrm>
            <a:prstGeom prst="flowChartDocumen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AutoShape 8"/>
            <p:cNvSpPr/>
            <p:nvPr/>
          </p:nvSpPr>
          <p:spPr>
            <a:xfrm>
              <a:off x="5447520" y="5321520"/>
              <a:ext cx="2754360" cy="2431080"/>
            </a:xfrm>
            <a:prstGeom prst="flowChartDocumen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AutoShape 9"/>
            <p:cNvSpPr/>
            <p:nvPr/>
          </p:nvSpPr>
          <p:spPr>
            <a:xfrm>
              <a:off x="5535360" y="3391200"/>
              <a:ext cx="2523240" cy="131220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Text Box 10"/>
            <p:cNvSpPr/>
            <p:nvPr/>
          </p:nvSpPr>
          <p:spPr>
            <a:xfrm>
              <a:off x="5478840" y="1976400"/>
              <a:ext cx="268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SOAP Envelo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Text Box 11"/>
            <p:cNvSpPr/>
            <p:nvPr/>
          </p:nvSpPr>
          <p:spPr>
            <a:xfrm>
              <a:off x="6368400" y="5349600"/>
              <a:ext cx="95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od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Text Box 12"/>
            <p:cNvSpPr/>
            <p:nvPr/>
          </p:nvSpPr>
          <p:spPr>
            <a:xfrm>
              <a:off x="6246720" y="2781720"/>
              <a:ext cx="12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Head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AutoShape 13"/>
            <p:cNvSpPr/>
            <p:nvPr/>
          </p:nvSpPr>
          <p:spPr>
            <a:xfrm>
              <a:off x="5573160" y="5993280"/>
              <a:ext cx="2523600" cy="1429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Text Box 14"/>
            <p:cNvSpPr/>
            <p:nvPr/>
          </p:nvSpPr>
          <p:spPr>
            <a:xfrm>
              <a:off x="5914800" y="6167520"/>
              <a:ext cx="1683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ayloa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Fault Info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Text Box 15"/>
            <p:cNvSpPr/>
            <p:nvPr/>
          </p:nvSpPr>
          <p:spPr>
            <a:xfrm>
              <a:off x="5654160" y="3929400"/>
              <a:ext cx="222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Header block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1" name="Group 16"/>
            <p:cNvGrpSpPr/>
            <p:nvPr/>
          </p:nvGrpSpPr>
          <p:grpSpPr>
            <a:xfrm>
              <a:off x="6209280" y="3494520"/>
              <a:ext cx="1153440" cy="259200"/>
              <a:chOff x="6209280" y="3494520"/>
              <a:chExt cx="1153440" cy="259200"/>
            </a:xfrm>
          </p:grpSpPr>
          <p:sp>
            <p:nvSpPr>
              <p:cNvPr id="682" name="Rectangle 17"/>
              <p:cNvSpPr/>
              <p:nvPr/>
            </p:nvSpPr>
            <p:spPr>
              <a:xfrm>
                <a:off x="6209280" y="3494520"/>
                <a:ext cx="240480" cy="259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Rectangle 18"/>
              <p:cNvSpPr/>
              <p:nvPr/>
            </p:nvSpPr>
            <p:spPr>
              <a:xfrm>
                <a:off x="6437880" y="3494520"/>
                <a:ext cx="239760" cy="259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Rectangle 19"/>
              <p:cNvSpPr/>
              <p:nvPr/>
            </p:nvSpPr>
            <p:spPr>
              <a:xfrm>
                <a:off x="6666120" y="3494520"/>
                <a:ext cx="239760" cy="259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Rectangle 20"/>
              <p:cNvSpPr/>
              <p:nvPr/>
            </p:nvSpPr>
            <p:spPr>
              <a:xfrm>
                <a:off x="6894360" y="3494520"/>
                <a:ext cx="240480" cy="259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Rectangle 21"/>
              <p:cNvSpPr/>
              <p:nvPr/>
            </p:nvSpPr>
            <p:spPr>
              <a:xfrm>
                <a:off x="7122960" y="3494520"/>
                <a:ext cx="239760" cy="259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7" name="Group 22"/>
            <p:cNvGrpSpPr/>
            <p:nvPr/>
          </p:nvGrpSpPr>
          <p:grpSpPr>
            <a:xfrm>
              <a:off x="6209280" y="3741480"/>
              <a:ext cx="1153440" cy="259200"/>
              <a:chOff x="6209280" y="3741480"/>
              <a:chExt cx="1153440" cy="259200"/>
            </a:xfrm>
          </p:grpSpPr>
          <p:sp>
            <p:nvSpPr>
              <p:cNvPr id="688" name="Rectangle 23"/>
              <p:cNvSpPr/>
              <p:nvPr/>
            </p:nvSpPr>
            <p:spPr>
              <a:xfrm>
                <a:off x="6209280" y="3741480"/>
                <a:ext cx="240480" cy="259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Rectangle 24"/>
              <p:cNvSpPr/>
              <p:nvPr/>
            </p:nvSpPr>
            <p:spPr>
              <a:xfrm>
                <a:off x="6437880" y="3741480"/>
                <a:ext cx="239760" cy="259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Rectangle 25"/>
              <p:cNvSpPr/>
              <p:nvPr/>
            </p:nvSpPr>
            <p:spPr>
              <a:xfrm>
                <a:off x="6666120" y="3741480"/>
                <a:ext cx="239760" cy="259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Rectangle 26"/>
              <p:cNvSpPr/>
              <p:nvPr/>
            </p:nvSpPr>
            <p:spPr>
              <a:xfrm>
                <a:off x="6894360" y="3741480"/>
                <a:ext cx="240480" cy="259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Rectangle 27"/>
              <p:cNvSpPr/>
              <p:nvPr/>
            </p:nvSpPr>
            <p:spPr>
              <a:xfrm>
                <a:off x="7122960" y="3741480"/>
                <a:ext cx="239760" cy="259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6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10B47-BCEF-4560-B34C-192113371E8E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8080"/>
                </a:solidFill>
                <a:latin typeface="Times New Roman"/>
              </a:rPr>
              <a:t>Web Services Description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96" name="Rectangle 17"/>
          <p:cNvSpPr/>
          <p:nvPr/>
        </p:nvSpPr>
        <p:spPr>
          <a:xfrm>
            <a:off x="5641920" y="6103800"/>
            <a:ext cx="72864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5"/>
          <p:cNvSpPr/>
          <p:nvPr/>
        </p:nvSpPr>
        <p:spPr>
          <a:xfrm rot="16200000">
            <a:off x="27360" y="6205320"/>
            <a:ext cx="162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-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Text Box 6"/>
          <p:cNvSpPr/>
          <p:nvPr/>
        </p:nvSpPr>
        <p:spPr>
          <a:xfrm rot="16200000">
            <a:off x="135000" y="3925800"/>
            <a:ext cx="140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Oval 7"/>
          <p:cNvSpPr/>
          <p:nvPr/>
        </p:nvSpPr>
        <p:spPr>
          <a:xfrm>
            <a:off x="1371600" y="6281640"/>
            <a:ext cx="2006640" cy="10209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e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Rectangle 10"/>
          <p:cNvSpPr/>
          <p:nvPr/>
        </p:nvSpPr>
        <p:spPr>
          <a:xfrm>
            <a:off x="1587600" y="3124080"/>
            <a:ext cx="6908760" cy="2227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AutoShape 11"/>
          <p:cNvSpPr/>
          <p:nvPr/>
        </p:nvSpPr>
        <p:spPr>
          <a:xfrm>
            <a:off x="3200400" y="6262560"/>
            <a:ext cx="3570120" cy="150840"/>
          </a:xfrm>
          <a:prstGeom prst="rightArrow">
            <a:avLst>
              <a:gd name="adj1" fmla="val 60435"/>
              <a:gd name="adj2" fmla="val 149899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AutoShape 12"/>
          <p:cNvSpPr/>
          <p:nvPr/>
        </p:nvSpPr>
        <p:spPr>
          <a:xfrm flipH="1">
            <a:off x="3225960" y="7010280"/>
            <a:ext cx="3473280" cy="139680"/>
          </a:xfrm>
          <a:prstGeom prst="rightArrow">
            <a:avLst>
              <a:gd name="adj1" fmla="val 60435"/>
              <a:gd name="adj2" fmla="val 15817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160" bIns="38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Rectangle 13"/>
          <p:cNvSpPr/>
          <p:nvPr/>
        </p:nvSpPr>
        <p:spPr>
          <a:xfrm>
            <a:off x="3484440" y="6019920"/>
            <a:ext cx="1163880" cy="65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Rectangle 15"/>
          <p:cNvSpPr/>
          <p:nvPr/>
        </p:nvSpPr>
        <p:spPr>
          <a:xfrm>
            <a:off x="3460680" y="6730920"/>
            <a:ext cx="1162080" cy="69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16"/>
          <p:cNvSpPr/>
          <p:nvPr/>
        </p:nvSpPr>
        <p:spPr>
          <a:xfrm>
            <a:off x="3543840" y="7435800"/>
            <a:ext cx="96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Line 19"/>
          <p:cNvSpPr/>
          <p:nvPr/>
        </p:nvSpPr>
        <p:spPr>
          <a:xfrm>
            <a:off x="2306520" y="5351400"/>
            <a:ext cx="0" cy="863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Rectangle 20"/>
          <p:cNvSpPr/>
          <p:nvPr/>
        </p:nvSpPr>
        <p:spPr>
          <a:xfrm>
            <a:off x="6853320" y="3240000"/>
            <a:ext cx="1515960" cy="20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Rectangle 21"/>
          <p:cNvSpPr/>
          <p:nvPr/>
        </p:nvSpPr>
        <p:spPr>
          <a:xfrm>
            <a:off x="2806560" y="3238560"/>
            <a:ext cx="2489400" cy="20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Typ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ion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9" name="AutoShape 22"/>
          <p:cNvCxnSpPr>
            <a:stCxn id="707" idx="2"/>
            <a:endCxn id="710" idx="0"/>
          </p:cNvCxnSpPr>
          <p:nvPr/>
        </p:nvCxnSpPr>
        <p:spPr>
          <a:xfrm flipH="1">
            <a:off x="7606800" y="5267160"/>
            <a:ext cx="5760" cy="990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1" name="Rectangle 23"/>
          <p:cNvSpPr/>
          <p:nvPr/>
        </p:nvSpPr>
        <p:spPr>
          <a:xfrm>
            <a:off x="5102280" y="3238560"/>
            <a:ext cx="1801800" cy="20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ranspo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2" name="AutoShape 24"/>
          <p:cNvCxnSpPr>
            <a:stCxn id="711" idx="2"/>
            <a:endCxn id="696" idx="0"/>
          </p:cNvCxnSpPr>
          <p:nvPr/>
        </p:nvCxnSpPr>
        <p:spPr>
          <a:xfrm>
            <a:off x="6001200" y="5265720"/>
            <a:ext cx="3960" cy="8388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3" name="AutoShape 25"/>
          <p:cNvCxnSpPr>
            <a:stCxn id="708" idx="2"/>
            <a:endCxn id="703" idx="0"/>
          </p:cNvCxnSpPr>
          <p:nvPr/>
        </p:nvCxnSpPr>
        <p:spPr>
          <a:xfrm>
            <a:off x="4051440" y="5265360"/>
            <a:ext cx="16560" cy="754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4" name="Text Box 26"/>
          <p:cNvSpPr/>
          <p:nvPr/>
        </p:nvSpPr>
        <p:spPr>
          <a:xfrm>
            <a:off x="1605960" y="3098880"/>
            <a:ext cx="118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SD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Oval 9"/>
          <p:cNvSpPr/>
          <p:nvPr/>
        </p:nvSpPr>
        <p:spPr>
          <a:xfrm>
            <a:off x="6616800" y="6256440"/>
            <a:ext cx="1981080" cy="10332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Text Box 16"/>
          <p:cNvSpPr/>
          <p:nvPr/>
        </p:nvSpPr>
        <p:spPr>
          <a:xfrm>
            <a:off x="851760" y="2368440"/>
            <a:ext cx="803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b Services Description Language (WSD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6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B7D09-4A8D-4314-84F0-E246F6BDAD17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WS-I Organization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474480" y="2234880"/>
            <a:ext cx="475740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eb Services Interoperabilit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3812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stablish consensus on best practice adoption of Web Service standards from W3C and OAS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S-I Basic Profile 1.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3812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rofiling of the W3C Specifica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3812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ynchronous communications mod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wo further Basic Profiles under developmen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3812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2 – inc. WS-Address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3812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0 – SOAPv1.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0" name=""/>
          <p:cNvGraphicFramePr/>
          <p:nvPr/>
        </p:nvGraphicFramePr>
        <p:xfrm>
          <a:off x="5494320" y="2197080"/>
          <a:ext cx="3009960" cy="5499000"/>
        </p:xfrm>
        <a:graphic>
          <a:graphicData uri="http://schemas.openxmlformats.org/drawingml/2006/table">
            <a:tbl>
              <a:tblPr/>
              <a:tblGrid>
                <a:gridCol w="3009960"/>
              </a:tblGrid>
              <a:tr h="1100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ML schema v1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100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APv1.1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09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TTPv1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100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SDLv1.1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100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DDIv2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sp>
        <p:nvSpPr>
          <p:cNvPr id="721" name="AutoShape 19"/>
          <p:cNvSpPr/>
          <p:nvPr/>
        </p:nvSpPr>
        <p:spPr>
          <a:xfrm>
            <a:off x="4622760" y="4346640"/>
            <a:ext cx="660600" cy="7714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6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3F49D-5C30-49EE-8944-A538F99ACD3A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reating and Deploying Service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Create a WSDL description (adopt interop best practice)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Generate service implementation from the WSDL (use appropriate tools)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Install the service using a Web Server e.g. Apach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Make the WSDL available for Client implementation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6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77204-6486-42BA-A0FA-DCF8D2FF1287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0360" y="1299960"/>
            <a:ext cx="815364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WS-* Standard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graphicFrame>
        <p:nvGraphicFramePr>
          <p:cNvPr id="729" name=""/>
          <p:cNvGraphicFramePr/>
          <p:nvPr/>
        </p:nvGraphicFramePr>
        <p:xfrm>
          <a:off x="393840" y="4127400"/>
          <a:ext cx="8204040" cy="4230720"/>
        </p:xfrm>
        <a:graphic>
          <a:graphicData uri="http://schemas.openxmlformats.org/drawingml/2006/table">
            <a:tbl>
              <a:tblPr/>
              <a:tblGrid>
                <a:gridCol w="2571480"/>
                <a:gridCol w="5632560"/>
              </a:tblGrid>
              <a:tr h="585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S Standa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scri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TO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ssage Transmission Optimisation Mechanism for sending non-XML da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S-Address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d-point address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S-Secur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curity framework for authentication and authoris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S-Polic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taching policy data to messag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P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rvice composition using the Business Process Execution Langu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0" name="Rectangle 5"/>
          <p:cNvSpPr/>
          <p:nvPr/>
        </p:nvSpPr>
        <p:spPr>
          <a:xfrm>
            <a:off x="474840" y="2235240"/>
            <a:ext cx="8135640" cy="22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econd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eneration Web Services (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WS-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) extend the capability of the core Web Servi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6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318B6-86CC-44D6-A814-765E603FE27E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Web Services Stack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34" name="Rectangle 4"/>
          <p:cNvSpPr/>
          <p:nvPr/>
        </p:nvSpPr>
        <p:spPr>
          <a:xfrm>
            <a:off x="1828800" y="7137360"/>
            <a:ext cx="5375160" cy="754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, SMTP, FTP, IIOP, J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6"/>
          <p:cNvSpPr/>
          <p:nvPr/>
        </p:nvSpPr>
        <p:spPr>
          <a:xfrm>
            <a:off x="441360" y="2425680"/>
            <a:ext cx="1336680" cy="54482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7"/>
          <p:cNvSpPr/>
          <p:nvPr/>
        </p:nvSpPr>
        <p:spPr>
          <a:xfrm>
            <a:off x="612360" y="751824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8"/>
          <p:cNvSpPr/>
          <p:nvPr/>
        </p:nvSpPr>
        <p:spPr>
          <a:xfrm>
            <a:off x="7265880" y="2427120"/>
            <a:ext cx="1336680" cy="54468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9"/>
          <p:cNvSpPr/>
          <p:nvPr/>
        </p:nvSpPr>
        <p:spPr>
          <a:xfrm>
            <a:off x="1838160" y="2425680"/>
            <a:ext cx="5348520" cy="4572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Rectangle 10"/>
          <p:cNvSpPr/>
          <p:nvPr/>
        </p:nvSpPr>
        <p:spPr>
          <a:xfrm>
            <a:off x="2262240" y="4508640"/>
            <a:ext cx="4857840" cy="229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Rectangle 11"/>
          <p:cNvSpPr/>
          <p:nvPr/>
        </p:nvSpPr>
        <p:spPr>
          <a:xfrm>
            <a:off x="2316240" y="6291360"/>
            <a:ext cx="4697280" cy="439560"/>
          </a:xfrm>
          <a:prstGeom prst="rect">
            <a:avLst/>
          </a:prstGeom>
          <a:solidFill>
            <a:srgbClr val="4fff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AP (v1.1 &amp; v1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Rectangle 12"/>
          <p:cNvSpPr/>
          <p:nvPr/>
        </p:nvSpPr>
        <p:spPr>
          <a:xfrm>
            <a:off x="2333520" y="4940280"/>
            <a:ext cx="4680000" cy="1244520"/>
          </a:xfrm>
          <a:prstGeom prst="rect">
            <a:avLst/>
          </a:prstGeom>
          <a:solidFill>
            <a:srgbClr val="4fff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Rectangle 13"/>
          <p:cNvSpPr/>
          <p:nvPr/>
        </p:nvSpPr>
        <p:spPr>
          <a:xfrm>
            <a:off x="3717360" y="4940280"/>
            <a:ext cx="209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AP Exten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Rectangle 14"/>
          <p:cNvSpPr/>
          <p:nvPr/>
        </p:nvSpPr>
        <p:spPr>
          <a:xfrm>
            <a:off x="2260440" y="3608280"/>
            <a:ext cx="4857840" cy="82404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scri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SDL (v1.1 &amp; 2.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Rectangle 15"/>
          <p:cNvSpPr/>
          <p:nvPr/>
        </p:nvSpPr>
        <p:spPr>
          <a:xfrm>
            <a:off x="4154400" y="445788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Text Box 16"/>
          <p:cNvSpPr/>
          <p:nvPr/>
        </p:nvSpPr>
        <p:spPr>
          <a:xfrm rot="16200000">
            <a:off x="-49680" y="4538520"/>
            <a:ext cx="420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asic Technologies XML, DTD, XS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Rectangle 17"/>
          <p:cNvSpPr/>
          <p:nvPr/>
        </p:nvSpPr>
        <p:spPr>
          <a:xfrm>
            <a:off x="2416320" y="5450040"/>
            <a:ext cx="796680" cy="64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Rectangle 19"/>
          <p:cNvSpPr/>
          <p:nvPr/>
        </p:nvSpPr>
        <p:spPr>
          <a:xfrm>
            <a:off x="3286080" y="5442120"/>
            <a:ext cx="797040" cy="64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S-Atom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Rectangle 20"/>
          <p:cNvSpPr/>
          <p:nvPr/>
        </p:nvSpPr>
        <p:spPr>
          <a:xfrm>
            <a:off x="4157640" y="5450040"/>
            <a:ext cx="839880" cy="64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S-Rel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ssa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21"/>
          <p:cNvSpPr/>
          <p:nvPr/>
        </p:nvSpPr>
        <p:spPr>
          <a:xfrm>
            <a:off x="547560" y="2511360"/>
            <a:ext cx="1111320" cy="84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S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Rectangle 22"/>
          <p:cNvSpPr/>
          <p:nvPr/>
        </p:nvSpPr>
        <p:spPr>
          <a:xfrm>
            <a:off x="533520" y="3408480"/>
            <a:ext cx="1110960" cy="83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S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Rectangle 23"/>
          <p:cNvSpPr/>
          <p:nvPr/>
        </p:nvSpPr>
        <p:spPr>
          <a:xfrm>
            <a:off x="7350120" y="2509920"/>
            <a:ext cx="1170000" cy="84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S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Rectangle 24"/>
          <p:cNvSpPr/>
          <p:nvPr/>
        </p:nvSpPr>
        <p:spPr>
          <a:xfrm>
            <a:off x="5072040" y="5440320"/>
            <a:ext cx="839880" cy="642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r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Rectangle 25"/>
          <p:cNvSpPr/>
          <p:nvPr/>
        </p:nvSpPr>
        <p:spPr>
          <a:xfrm>
            <a:off x="7350120" y="3441600"/>
            <a:ext cx="1170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S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Text Box 26"/>
          <p:cNvSpPr/>
          <p:nvPr/>
        </p:nvSpPr>
        <p:spPr>
          <a:xfrm>
            <a:off x="7202520" y="75261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Rectangle 27"/>
          <p:cNvSpPr/>
          <p:nvPr/>
        </p:nvSpPr>
        <p:spPr>
          <a:xfrm>
            <a:off x="2252520" y="2492280"/>
            <a:ext cx="4857840" cy="10540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Rectangle 28"/>
          <p:cNvSpPr/>
          <p:nvPr/>
        </p:nvSpPr>
        <p:spPr>
          <a:xfrm>
            <a:off x="4208040" y="244152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Rectangle 30"/>
          <p:cNvSpPr/>
          <p:nvPr/>
        </p:nvSpPr>
        <p:spPr>
          <a:xfrm>
            <a:off x="2336760" y="2870280"/>
            <a:ext cx="132552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S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ov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Rectangle 31"/>
          <p:cNvSpPr/>
          <p:nvPr/>
        </p:nvSpPr>
        <p:spPr>
          <a:xfrm>
            <a:off x="3754440" y="2870280"/>
            <a:ext cx="79704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P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Rectangle 32"/>
          <p:cNvSpPr/>
          <p:nvPr/>
        </p:nvSpPr>
        <p:spPr>
          <a:xfrm>
            <a:off x="5986440" y="5448240"/>
            <a:ext cx="949320" cy="6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S-Re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rame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Rectangle 33"/>
          <p:cNvSpPr/>
          <p:nvPr/>
        </p:nvSpPr>
        <p:spPr>
          <a:xfrm>
            <a:off x="5545080" y="2870280"/>
            <a:ext cx="14652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S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Rectangle 34"/>
          <p:cNvSpPr/>
          <p:nvPr/>
        </p:nvSpPr>
        <p:spPr>
          <a:xfrm>
            <a:off x="4643280" y="2870280"/>
            <a:ext cx="79704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D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10:30:08Z</dcterms:created>
  <dc:creator>C Smythe</dc:creator>
  <dc:description/>
  <dc:language>en-US</dc:language>
  <cp:lastModifiedBy>Colin Smythe</cp:lastModifiedBy>
  <cp:lastPrinted>2008-02-19T11:08:18Z</cp:lastPrinted>
  <dcterms:modified xsi:type="dcterms:W3CDTF">2009-05-20T20:26:50Z</dcterms:modified>
  <cp:revision>268</cp:revision>
  <dc:subject/>
  <dc:title>No Slide Title</dc:title>
</cp:coreProperties>
</file>